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jpeg" ContentType="image/jpeg"/>
  <Override PartName="/ppt/media/image1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7.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10.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87CE4D80-843B-479F-BFB1-924514C3F7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 </a:t>
            </a:r>
            <a:r>
              <a:rPr b="0" lang="en-US" sz="1200" spc="-1" strike="noStrike">
                <a:solidFill>
                  <a:srgbClr val="000000"/>
                </a:solidFill>
                <a:latin typeface="Arial"/>
              </a:rPr>
              <a:t>1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Title: </a:t>
            </a:r>
            <a:r>
              <a:rPr b="0" lang="en-US" sz="1200" spc="-1" strike="noStrike">
                <a:solidFill>
                  <a:srgbClr val="000000"/>
                </a:solidFill>
                <a:latin typeface="Arial"/>
              </a:rPr>
              <a:t>Pedestrian Design at Intersec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Objectiv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lesson, students will be able t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ajor issues related to safely accommodating pedestrians at intersecti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en, why, and how to use crosswalks, curb ramps, crossing and detection technology, pedestrian half-signals, curb extensions, signal timing, pushbuttons, refuge islands and roundabou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Particip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ctivity provided in the Federal Highway Administration University Course on Bicycle and Pedestrian Transportation Student Workbook (Student Workbook).</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up:</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reading for lesson 1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ssion Time: </a:t>
            </a:r>
            <a:r>
              <a:rPr b="0" lang="en-US" sz="1200" spc="-1" strike="noStrike">
                <a:solidFill>
                  <a:srgbClr val="000000"/>
                </a:solidFill>
                <a:latin typeface="Arial"/>
              </a:rPr>
              <a:t>45</a:t>
            </a:r>
            <a:r>
              <a:rPr b="0" lang="en-US" sz="1200" spc="-1" strike="noStrike">
                <a:solidFill>
                  <a:srgbClr val="000000"/>
                </a:solidFill>
                <a:latin typeface="Arial"/>
                <a:ea typeface="Times New Roman"/>
              </a:rPr>
              <a:t>–</a:t>
            </a:r>
            <a:r>
              <a:rPr b="0" lang="en-US" sz="1200" spc="-1" strike="noStrike">
                <a:solidFill>
                  <a:srgbClr val="000000"/>
                </a:solidFill>
                <a:latin typeface="Arial"/>
              </a:rPr>
              <a:t>60 minu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lope and counter slope dimensions for curb ramps are important elements of accessible sidewalk and street crossing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No lip, gap, or joint should be present at the base of the ramp. Slope and counter slope must have an algebraic difference of less than 11%. If not, then a 2-foot level landing is required. Detectable warnings, ramp dimensions, etc., are covered in the previou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 some locations, simply installing a crosswalk is not enough to ensure pedestrian safety at a crossing. Therefore, several other treatments may be used in conjunction with crosswalks to improve safety and provide greater visibility of pedestrians to motor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ossible solutions have already been discussed in previous chapters relating to walkways and crosswal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vement markings and signing (lessons 10.4 to 1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avement flashers (lesson 10.9, “Intelligent Transportation Systems Techn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detection devices (lesson 10.9, “Intelligent Transportation Systems Techn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lighting (lesson 9.5, “Ambience, Shade, and Other Sidewalk Enhanc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vement surfaces and tactile ground surface indicators (lesson 9.3, “Basic Sidewalk Ele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roadway warning lights can be used to improve the visibility of pedestrian cross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r>
              <a:rPr b="0" lang="en-US" sz="1200" spc="-1" strike="noStrike">
                <a:solidFill>
                  <a:srgbClr val="000000"/>
                </a:solidFill>
                <a:latin typeface="Arial"/>
              </a:rPr>
              <a:t>Discuss the cost of installation and maintenance and the use of the warning lights at crossings with significant nighttime activity and/or poor visib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Half-signals may assist pedestrians in crossing the street at high-volume, unsignalized intersections along arterials without causing excessive delay for vehicular traf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lf-signal is a pedestrian actuated traffic signal that stops arterial traffic only, leaving the lower-volume cross street unsignalized and controlled by STOP signs only. It allows pedestrians to cross safely upon demand without creating major delays on arterial street traffic that a fully signalized intersection might impo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edestrian half-signals are beneficial in som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r>
              <a:rPr b="0" lang="en-US" sz="1200" spc="-1" strike="noStrike">
                <a:solidFill>
                  <a:srgbClr val="000000"/>
                </a:solidFill>
                <a:latin typeface="Arial"/>
              </a:rPr>
              <a:t>Used on wide arterials with small cross streets and low traffic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urb extensions provide a variety of benefits for facilitating safer pedestrian crossings at 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b extensions project into the street, usually for a distance equal to the depth of a typical parallel parking space, thereby making it easier for pedestrians to see approaching traffic and giving motorists a better view of pedestrians. When motorists are better able to see pedestrians, they have a greater opportunity to stop before a crash can occu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ushbuttons and signal timings should be used in a way that is least confusing for the pedestrian and most accommodating for both drivers and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olicies governing pedestrian signal timing and pushbutton actuation to ensure fair treatment for pedestrians. Make signal timing as consistent as possible, and adopt a clear pedestrian pushbutton warrant. Develop a desired level of service for pedestrian waiting and pushbutton response times and evaluate signalized intersections to see if the pedestrian level of service at signalized intersection falls within an acceptable r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ushbuttons are used to actuate pedestrian crossing signals and should be accessible to all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Some individuals may have difficulty operating pedestrian pushbuttons. In some instances, there may be a need to install a larger pushbutton or to change the placement of the pushbutton. Pedestrian pushbuttons should always be easily accessible to individuals in wheelchairs, and should be no more than 1.2 m (48 inches) above the sidewalk (see figures in Student Workbook for reach restrictions) to be within the reach limits of wheelchair users. The force required to activate the pushbutton should be no greater than 2.3 kilograms (5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Pedestrian pushbuttons should be located next to the sidewalk landing, at the top of the ramp, and adjacent to the appropriate crosswalk ramp. If there are two pushbuttons at a corner (one for each crosswalk), the pushbuttons should be located on separate poles and adjacent to their respective r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pictures on this slide show three different types of pushbuttons and their respective sig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On certain types of roadways, pedestrian refuge islands can increase safety for pedestrians without causing additional delay for moto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estrian refuge islands are defined as the areas within an intersection or between lanes of traffic where pedestrians may safely wait until vehicular traffic clears, allowing them to cross a street. Refuge islands are commonly found along wide, multilane streets where adequate pedestrian crossing time could not be provided without adversely affecting the traffic flow. These islands provide a resting area for pedestrians, particularly those who are unable to completely cross an intersection within the provided signal time. These refuge islands also provide a safety area for pedestrians caught in the street when a signal chang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Roundabouts are an alternative design for intersections that present several tradeoffs in pedestrian and bicyclist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rn roundabout is built with a large, often circular, raised island located at the intersection of an arterial street with one or more crossing roadways and may take the place of a traffic signal. Traffic maneuvers around the circle in a counterclockwise direction, and then turns onto the desired street. All traffic yields to motorists in the roundabout and left-turn movements are eliminated. Unlike a signalized intersection, vehicles generally flow and merge through the roundabout from each approaching street without having to s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abouts need to accommodate pedestrians and bicyclists. It is important that automobile traffic yields to pedestrians crossing the roundabout. Splitter islands at the approaches slow vehicles and allow pedestrians to cross one traffic lane at a time. Single‑lane approaches can be designed to keep speeds down to safer levels and allow pedestrians to cross. Multilane approaches have higher speeds, create multiple threats for pedestrians, and are not recomm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ly impaired pedestrians may have some trouble making crossings on roundabouts approaches due to the fact that the audio cues of circulating traffic make it difficult for these pedestrians to determine a gap (on the exiting side of the roundabou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number of conflict points on a roundabout is less than on a traditional inter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r>
              <a:rPr b="0" lang="en-US" sz="1200" spc="-1" strike="noStrike">
                <a:solidFill>
                  <a:srgbClr val="000000"/>
                </a:solidFill>
                <a:latin typeface="Arial"/>
              </a:rPr>
              <a:t>Splitter islands can be used as pedestrian refuge islands. Visually impaired pedestrians may have difficulty discerning the circulating traffic from the traffic exiting the roundabout. This makes it difficult to identify a ga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se are the design principles that make for safe and effective pedestrian cross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students why each of these is import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esigners must place themselves in the pedestrians’ shoes to determine what creates the safest and most efficient environment for pedestrians and vehicle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reduced visibility for both the motor vehicles and pedestrians when the pedestrians are trying to cross the street. What treatments could be used be used in this situation</a:t>
            </a:r>
            <a:r>
              <a:rPr b="0" lang="en-US" sz="1200" spc="-1" strike="noStrike">
                <a:solidFill>
                  <a:srgbClr val="000000"/>
                </a:solidFill>
                <a:latin typeface="Arial"/>
                <a:ea typeface="Times New Roman"/>
              </a:rPr>
              <a:t>—c</a:t>
            </a:r>
            <a:r>
              <a:rPr b="0" lang="en-US" sz="1200" spc="-1" strike="noStrike">
                <a:solidFill>
                  <a:srgbClr val="000000"/>
                </a:solidFill>
                <a:latin typeface="Arial"/>
              </a:rPr>
              <a:t>urb extension? removal of par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mprove visibility of both the motorist and the pedestrian by using curb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reases visibility for both pedestrian and motorist, and it reduces crossing time. However, this will reduced the throughput of right-turning vehic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rosswalks encourage pedestrians to cross in certain locations and provide motorists with a reasonable expectation of where pedestrians will be f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crosswalk concepts and issues include:</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reasonable expectations of where pedestrians may cross a roadway. A crosswalk creates a visible indication for both motorists and pedestrians of where pedestrians may be expected to cross a roadway.</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pedestrian actions and movement. When combined with signalization (as well as curb extensions and refuge islands, where appropriate), crosswalks can help to control pedestrian movement and make them more routine and predictable.</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n and where crosswalks are appropriate. As noted in the Oregon</a:t>
            </a:r>
            <a:r>
              <a:rPr b="0" i="1" lang="en-US" sz="1200" spc="-1" strike="noStrike">
                <a:solidFill>
                  <a:srgbClr val="000000"/>
                </a:solidFill>
                <a:latin typeface="Arial"/>
              </a:rPr>
              <a:t> Bicycle and Pedestrian Plan</a:t>
            </a:r>
            <a:r>
              <a:rPr b="0" lang="en-US" sz="1200" spc="-1" strike="noStrike">
                <a:solidFill>
                  <a:srgbClr val="000000"/>
                </a:solidFill>
                <a:latin typeface="Arial"/>
              </a:rPr>
              <a:t>, some studies have found that pedestrians may develop a false sense of security when crossing a road in marked crosswalks. Other studies have found that motorists are more likely to stop for pedestrians in marked crosswalks, especially where pedestrian right-of-way laws are enforced.</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ere crosswalks might be located. Generally, marked crosswalks are located at all open legs of signalized intersections. They may also be provided at other locations. By the use of curb extensions, signage, and illumination, the visibility of pedestrian crossings can be enhanc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ommon types of crosswalk pavement mark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t types of crosswalks have been used and can be more visible; but they may be harder to maintain due to the increased amount of paint exposed to traffi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Ramps should be constructed according to Americans with Disabilities Act (ADA)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lesson 8.6, “Design Requirements,” or lesson 9.3, “Basic Sidewalk Elements,” for more information about curb r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Curb Ramp Slope and Dimens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use of t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 wid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 sl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re slo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able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B5718C-4C29-42D2-A494-1217AAE1E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68E5A7-9224-489E-BAAE-D4227B806D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D5B06D-E54B-4526-A9C1-EB58FB9AC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B039A5-A108-4F3E-AC4D-3FA56A2A0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4A304-693D-46E2-AC59-5BBF33313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A4DF5-73D1-4B87-A28A-74FD204D5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DB046-371F-4DF6-A7CD-4E4567F90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9034E0-34B5-48C1-9043-0294639557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8164B1-8D06-4805-AC45-A8E02CF92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46872A-32C5-4E28-A5DC-691EEF9667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B7AAC-8B94-4BC3-AEC9-01B43CEAF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B391BD-3E52-444B-8037-BF4BDF5F3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7D78390E-6A99-451F-8238-7C2AE2221EE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89388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Design </a:t>
            </a:r>
            <a:br>
              <a:rPr sz="3600"/>
            </a:br>
            <a:r>
              <a:rPr b="0" lang="en-US" sz="3600" spc="-1" strike="noStrike">
                <a:solidFill>
                  <a:srgbClr val="d0282b"/>
                </a:solidFill>
                <a:latin typeface="Impact"/>
              </a:rPr>
              <a:t>at Intersections</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635440"/>
            <a:ext cx="6400800" cy="533160"/>
          </a:xfrm>
          <a:prstGeom prst="rect">
            <a:avLst/>
          </a:prstGeom>
          <a:noFill/>
          <a:ln w="0">
            <a:noFill/>
          </a:ln>
        </p:spPr>
        <p:txBody>
          <a:bodyPr lIns="90000" rIns="90000" tIns="46800" bIns="4680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1</a:t>
            </a:r>
            <a:endParaRPr b="0" lang="en-US" sz="2800" spc="-1" strike="noStrike">
              <a:solidFill>
                <a:srgbClr val="000000"/>
              </a:solidFill>
              <a:latin typeface="Tahoma"/>
            </a:endParaRPr>
          </a:p>
        </p:txBody>
      </p:sp>
      <p:pic>
        <p:nvPicPr>
          <p:cNvPr id="97" name="" descr=""/>
          <p:cNvPicPr/>
          <p:nvPr/>
        </p:nvPicPr>
        <p:blipFill>
          <a:blip r:embed="rId1"/>
          <a:srcRect l="24609" t="9844" r="8532" b="11811"/>
          <a:stretch/>
        </p:blipFill>
        <p:spPr>
          <a:xfrm>
            <a:off x="2651040" y="2247840"/>
            <a:ext cx="3840120" cy="3159360"/>
          </a:xfrm>
          <a:prstGeom prst="rect">
            <a:avLst/>
          </a:prstGeom>
          <a:ln w="12600">
            <a:solidFill>
              <a:srgbClr val="000099"/>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0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Slope and Counter Slope</a:t>
            </a:r>
            <a:endParaRPr b="0" lang="en-US" sz="3600" spc="-1" strike="noStrike">
              <a:solidFill>
                <a:srgbClr val="d0282b"/>
              </a:solidFill>
              <a:latin typeface="Impact"/>
            </a:endParaRPr>
          </a:p>
        </p:txBody>
      </p:sp>
      <p:pic>
        <p:nvPicPr>
          <p:cNvPr id="116" name="" descr=""/>
          <p:cNvPicPr/>
          <p:nvPr/>
        </p:nvPicPr>
        <p:blipFill>
          <a:blip r:embed="rId1"/>
          <a:stretch/>
        </p:blipFill>
        <p:spPr>
          <a:xfrm>
            <a:off x="2809800" y="1808280"/>
            <a:ext cx="5176800" cy="3782880"/>
          </a:xfrm>
          <a:prstGeom prst="rect">
            <a:avLst/>
          </a:prstGeom>
          <a:ln w="0">
            <a:noFill/>
          </a:ln>
        </p:spPr>
      </p:pic>
      <p:sp>
        <p:nvSpPr>
          <p:cNvPr id="3" name="PlaceHolder 2"/>
          <p:cNvSpPr>
            <a:spLocks noGrp="1"/>
          </p:cNvSpPr>
          <p:nvPr>
            <p:ph type="sldNum" idx="2"/>
          </p:nvPr>
        </p:nvSpPr>
        <p:spPr/>
        <p:txBody>
          <a:bodyPr/>
          <a:p>
            <a:fld id="{E412516C-3ADC-4086-840B-3DE7EA364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981080"/>
            <a:ext cx="792468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visibility to crossing.</a:t>
            </a:r>
            <a:endParaRPr b="0" lang="en-US" sz="26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ncourage and assist pedestrian crossings.</a:t>
            </a:r>
            <a:endParaRPr b="0" lang="en-US" sz="26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imes New Roman"/>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ich treatment to use (lighting, flags, green signs, flashing beacons, staggered pedestrian crossings, etc.) and where to use?</a:t>
            </a:r>
            <a:endParaRPr b="0" lang="en-US" sz="2600" spc="-1" strike="noStrike">
              <a:solidFill>
                <a:srgbClr val="000000"/>
              </a:solidFill>
              <a:latin typeface="Times New Roman"/>
            </a:endParaRPr>
          </a:p>
        </p:txBody>
      </p:sp>
      <p:sp>
        <p:nvSpPr>
          <p:cNvPr id="118" name=""/>
          <p:cNvSpPr/>
          <p:nvPr/>
        </p:nvSpPr>
        <p:spPr>
          <a:xfrm>
            <a:off x="685800" y="380880"/>
            <a:ext cx="77724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Crossing and</a:t>
            </a:r>
            <a:br>
              <a:rPr sz="3600"/>
            </a:br>
            <a:r>
              <a:rPr b="0" lang="en-US" sz="3600" spc="-1" strike="noStrike">
                <a:solidFill>
                  <a:srgbClr val="d0282b"/>
                </a:solidFill>
                <a:latin typeface="Impact"/>
              </a:rPr>
              <a:t>Detection Technology</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5BB0EB8-AA40-406E-A01B-85642E1668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Roadway Warning Lights</a:t>
            </a:r>
            <a:endParaRPr b="0" lang="en-US" sz="3600" spc="-1" strike="noStrike">
              <a:solidFill>
                <a:srgbClr val="d0282b"/>
              </a:solidFill>
              <a:latin typeface="Impact"/>
            </a:endParaRPr>
          </a:p>
        </p:txBody>
      </p:sp>
      <p:pic>
        <p:nvPicPr>
          <p:cNvPr id="120" name="" descr=""/>
          <p:cNvPicPr/>
          <p:nvPr/>
        </p:nvPicPr>
        <p:blipFill>
          <a:blip r:embed="rId1"/>
          <a:stretch/>
        </p:blipFill>
        <p:spPr>
          <a:xfrm>
            <a:off x="533520" y="2363760"/>
            <a:ext cx="4038480" cy="3141720"/>
          </a:xfrm>
          <a:prstGeom prst="rect">
            <a:avLst/>
          </a:prstGeom>
          <a:ln w="0">
            <a:noFill/>
          </a:ln>
        </p:spPr>
      </p:pic>
      <p:pic>
        <p:nvPicPr>
          <p:cNvPr id="121" name="" descr=""/>
          <p:cNvPicPr/>
          <p:nvPr/>
        </p:nvPicPr>
        <p:blipFill>
          <a:blip r:embed="rId2"/>
          <a:srcRect l="0" t="24842" r="0" b="8790"/>
          <a:stretch/>
        </p:blipFill>
        <p:spPr>
          <a:xfrm>
            <a:off x="5281560" y="2065320"/>
            <a:ext cx="3005280" cy="3948120"/>
          </a:xfrm>
          <a:prstGeom prst="rect">
            <a:avLst/>
          </a:prstGeom>
          <a:ln w="0">
            <a:noFill/>
          </a:ln>
        </p:spPr>
      </p:pic>
      <p:sp>
        <p:nvSpPr>
          <p:cNvPr id="3" name="PlaceHolder 2"/>
          <p:cNvSpPr>
            <a:spLocks noGrp="1"/>
          </p:cNvSpPr>
          <p:nvPr>
            <p:ph type="sldNum" idx="2"/>
          </p:nvPr>
        </p:nvSpPr>
        <p:spPr/>
        <p:txBody>
          <a:bodyPr/>
          <a:p>
            <a:fld id="{E52D9E4C-75C1-4013-B2E4-962CC6CE9C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28600" y="1447920"/>
            <a:ext cx="8763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sist pedestrian crossings on high-volume, unsignalized intersections along arterials.</a:t>
            </a:r>
            <a:endParaRPr b="0" lang="en-US" sz="26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delay &gt; 30 seconds, pedestrians will cross on their own.</a:t>
            </a:r>
            <a:endParaRPr b="0" lang="en-US" sz="26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just timing for pedestrian walking speeds.</a:t>
            </a:r>
            <a:endParaRPr b="0" lang="en-US" sz="26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lace pedestrian signal heads on channelized islands.</a:t>
            </a:r>
            <a:endParaRPr b="0" lang="en-US" sz="26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audible signals where necessary.</a:t>
            </a:r>
            <a:endParaRPr b="0" lang="en-US" sz="2600" spc="-1" strike="noStrike">
              <a:solidFill>
                <a:srgbClr val="000000"/>
              </a:solidFill>
              <a:latin typeface="Times New Roman"/>
            </a:endParaRPr>
          </a:p>
        </p:txBody>
      </p:sp>
      <p:sp>
        <p:nvSpPr>
          <p:cNvPr id="123" name=""/>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Pedestrian Half-Sign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8E69B6A-231C-4FBA-8F3F-58BF9D5400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8320" y="7776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xample of Half-Signal</a:t>
            </a:r>
            <a:endParaRPr b="0" lang="en-US" sz="3600" spc="-1" strike="noStrike">
              <a:solidFill>
                <a:srgbClr val="d0282b"/>
              </a:solidFill>
              <a:latin typeface="Impact"/>
            </a:endParaRPr>
          </a:p>
        </p:txBody>
      </p:sp>
      <p:pic>
        <p:nvPicPr>
          <p:cNvPr id="125" name="" descr=""/>
          <p:cNvPicPr/>
          <p:nvPr/>
        </p:nvPicPr>
        <p:blipFill>
          <a:blip r:embed="rId1"/>
          <a:stretch/>
        </p:blipFill>
        <p:spPr>
          <a:xfrm>
            <a:off x="1614600" y="1562040"/>
            <a:ext cx="5914800" cy="4432320"/>
          </a:xfrm>
          <a:prstGeom prst="rect">
            <a:avLst/>
          </a:prstGeom>
          <a:ln w="0">
            <a:noFill/>
          </a:ln>
        </p:spPr>
      </p:pic>
      <p:sp>
        <p:nvSpPr>
          <p:cNvPr id="3" name="PlaceHolder 2"/>
          <p:cNvSpPr>
            <a:spLocks noGrp="1"/>
          </p:cNvSpPr>
          <p:nvPr>
            <p:ph type="sldNum" idx="2"/>
          </p:nvPr>
        </p:nvSpPr>
        <p:spPr/>
        <p:txBody>
          <a:bodyPr/>
          <a:p>
            <a:fld id="{85D885CA-AE0A-401C-8198-B8B04A2BCC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orten pedestrian crossing distance.</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orten pedestrian signal phase.</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low pedestrians to see the traffic better.</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low traffic to see the pedestrians.</a:t>
            </a:r>
            <a:endParaRPr b="0" lang="en-US" sz="26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rner radius length.</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far to extend into the street?</a:t>
            </a:r>
            <a:endParaRPr b="0" lang="en-US" sz="2600" spc="-1" strike="noStrike">
              <a:solidFill>
                <a:srgbClr val="000000"/>
              </a:solidFill>
              <a:latin typeface="Tahoma"/>
            </a:endParaRPr>
          </a:p>
        </p:txBody>
      </p:sp>
      <p:sp>
        <p:nvSpPr>
          <p:cNvPr id="127"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Curb Extension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E7C0A174-B633-43B4-BBE8-35F0735F35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top vehicular traffic and provide pedestrian crossing phase.</a:t>
            </a:r>
            <a:endParaRPr b="0" lang="en-US" sz="26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ocation (near ramps, in medians, etc.).</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ghts (like an elevator call button) to indicate actuation of the pushbutton.</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Quick response time to actuation.</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ALK/DON’T WALK signal phase timing.</a:t>
            </a:r>
            <a:endParaRPr b="0" lang="en-US" sz="2600" spc="-1" strike="noStrike">
              <a:solidFill>
                <a:srgbClr val="000000"/>
              </a:solidFill>
              <a:latin typeface="Tahoma"/>
            </a:endParaRPr>
          </a:p>
        </p:txBody>
      </p:sp>
      <p:sp>
        <p:nvSpPr>
          <p:cNvPr id="129" name="PlaceHolder 2"/>
          <p:cNvSpPr>
            <a:spLocks noGrp="1"/>
          </p:cNvSpPr>
          <p:nvPr>
            <p:ph type="title"/>
          </p:nvPr>
        </p:nvSpPr>
        <p:spPr>
          <a:xfrm>
            <a:off x="685800" y="533520"/>
            <a:ext cx="77724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Signal Timing</a:t>
            </a:r>
            <a:br>
              <a:rPr sz="3600"/>
            </a:br>
            <a:r>
              <a:rPr b="0" lang="en-US" sz="3600" spc="-1" strike="noStrike">
                <a:solidFill>
                  <a:srgbClr val="d0282b"/>
                </a:solidFill>
                <a:latin typeface="Impact"/>
              </a:rPr>
              <a:t>and Pushbutton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7A0F98A3-D5D5-4655-BAA7-E679A387DB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3200" y="72036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ushbuttons</a:t>
            </a:r>
            <a:endParaRPr b="0" lang="en-US" sz="3600" spc="-1" strike="noStrike">
              <a:solidFill>
                <a:srgbClr val="d0282b"/>
              </a:solidFill>
              <a:latin typeface="Impact"/>
            </a:endParaRPr>
          </a:p>
        </p:txBody>
      </p:sp>
      <p:pic>
        <p:nvPicPr>
          <p:cNvPr id="131" name="" descr=""/>
          <p:cNvPicPr/>
          <p:nvPr/>
        </p:nvPicPr>
        <p:blipFill>
          <a:blip r:embed="rId1"/>
          <a:srcRect l="30858" t="0" r="0" b="0"/>
          <a:stretch/>
        </p:blipFill>
        <p:spPr>
          <a:xfrm>
            <a:off x="3352680" y="1981080"/>
            <a:ext cx="2514600" cy="3502080"/>
          </a:xfrm>
          <a:prstGeom prst="rect">
            <a:avLst/>
          </a:prstGeom>
          <a:ln w="12600">
            <a:solidFill>
              <a:srgbClr val="000066"/>
            </a:solidFill>
            <a:miter/>
          </a:ln>
        </p:spPr>
      </p:pic>
      <p:pic>
        <p:nvPicPr>
          <p:cNvPr id="132" name="" descr=""/>
          <p:cNvPicPr/>
          <p:nvPr/>
        </p:nvPicPr>
        <p:blipFill>
          <a:blip r:embed="rId2"/>
          <a:srcRect l="23175" t="20572" r="0" b="0"/>
          <a:stretch/>
        </p:blipFill>
        <p:spPr>
          <a:xfrm>
            <a:off x="457200" y="1752480"/>
            <a:ext cx="2514600" cy="3907080"/>
          </a:xfrm>
          <a:prstGeom prst="rect">
            <a:avLst/>
          </a:prstGeom>
          <a:ln w="12600">
            <a:solidFill>
              <a:srgbClr val="000066"/>
            </a:solidFill>
            <a:miter/>
          </a:ln>
        </p:spPr>
      </p:pic>
      <p:pic>
        <p:nvPicPr>
          <p:cNvPr id="133" name="" descr=""/>
          <p:cNvPicPr/>
          <p:nvPr/>
        </p:nvPicPr>
        <p:blipFill>
          <a:blip r:embed="rId3"/>
          <a:srcRect l="0" t="0" r="0" b="10286"/>
          <a:stretch/>
        </p:blipFill>
        <p:spPr>
          <a:xfrm>
            <a:off x="6172200" y="2209680"/>
            <a:ext cx="2514600" cy="3002040"/>
          </a:xfrm>
          <a:prstGeom prst="rect">
            <a:avLst/>
          </a:prstGeom>
          <a:ln w="12600">
            <a:solidFill>
              <a:srgbClr val="000066"/>
            </a:solidFill>
            <a:miter/>
          </a:ln>
        </p:spPr>
      </p:pic>
      <p:sp>
        <p:nvSpPr>
          <p:cNvPr id="134"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CCDBD8F-FDB3-4095-800B-6DE6E39F2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a safe resting/waiting area for pedestrians.</a:t>
            </a:r>
            <a:endParaRPr b="0" lang="en-US" sz="26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low pedestrians to cross only one direction of traffic at a time.</a:t>
            </a:r>
            <a:endParaRPr b="0" lang="en-US" sz="2600" spc="-1" strike="noStrike">
              <a:solidFill>
                <a:srgbClr val="000000"/>
              </a:solidFill>
              <a:latin typeface="Tahoma"/>
            </a:endParaRPr>
          </a:p>
          <a:p>
            <a:pPr marL="343080" indent="-3430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essible path through island.</a:t>
            </a:r>
            <a:endParaRPr b="0" lang="en-US" sz="26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ffset crosswalks to orient crossing pedestrians to oncoming traffic.</a:t>
            </a:r>
            <a:endParaRPr b="0" lang="en-US" sz="26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inimum dimensions</a:t>
            </a:r>
            <a:r>
              <a:rPr b="0" lang="en-US" sz="2600" spc="-1" strike="noStrike">
                <a:solidFill>
                  <a:srgbClr val="000000"/>
                </a:solidFill>
                <a:latin typeface="Tahoma"/>
                <a:ea typeface="Tahoma"/>
              </a:rPr>
              <a:t>—</a:t>
            </a:r>
            <a:r>
              <a:rPr b="0" lang="en-US" sz="2600" spc="-1" strike="noStrike">
                <a:solidFill>
                  <a:srgbClr val="000000"/>
                </a:solidFill>
                <a:latin typeface="Tahoma"/>
              </a:rPr>
              <a:t>1.8 meters (m) long </a:t>
            </a:r>
            <a:br>
              <a:rPr sz="2600"/>
            </a:br>
            <a:r>
              <a:rPr b="0" lang="en-US" sz="2600" spc="-1" strike="noStrike">
                <a:solidFill>
                  <a:srgbClr val="000000"/>
                </a:solidFill>
                <a:latin typeface="Tahoma"/>
              </a:rPr>
              <a:t>by 3.7 m wide (12 feet (ft) long by 6 ft wide).</a:t>
            </a:r>
            <a:endParaRPr b="0" lang="en-US" sz="26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ighly visible approach nose.</a:t>
            </a:r>
            <a:endParaRPr b="0" lang="en-US" sz="26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Guide strips for the visually impaired.</a:t>
            </a:r>
            <a:endParaRPr b="0" lang="en-US" sz="2600" spc="-1" strike="noStrike">
              <a:solidFill>
                <a:srgbClr val="000000"/>
              </a:solidFill>
              <a:latin typeface="Tahoma"/>
            </a:endParaRPr>
          </a:p>
        </p:txBody>
      </p:sp>
      <p:sp>
        <p:nvSpPr>
          <p:cNvPr id="136"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Pedestrian Refuge Island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8813FEA1-6884-4E55-B0D8-3C5F382EB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676520"/>
            <a:ext cx="830592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ower vehicular speed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duce the number of conflict point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orten crossing distances and waiting times.</a:t>
            </a:r>
            <a:endParaRPr b="0" lang="en-US" sz="26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ked versus unmarked crosswalk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essibility for visually impaired pedestrian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plitter island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scouraging pedestrians from crossing to the center island.</a:t>
            </a:r>
            <a:endParaRPr b="0" lang="en-US" sz="2600" spc="-1" strike="noStrike">
              <a:solidFill>
                <a:srgbClr val="000000"/>
              </a:solidFill>
              <a:latin typeface="Tahoma"/>
            </a:endParaRPr>
          </a:p>
        </p:txBody>
      </p:sp>
      <p:sp>
        <p:nvSpPr>
          <p:cNvPr id="138" name="PlaceHolder 2"/>
          <p:cNvSpPr>
            <a:spLocks noGrp="1"/>
          </p:cNvSpPr>
          <p:nvPr>
            <p:ph type="title"/>
          </p:nvPr>
        </p:nvSpPr>
        <p:spPr>
          <a:xfrm>
            <a:off x="366480" y="821880"/>
            <a:ext cx="7878600" cy="7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Roundabout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BD6FF061-CA92-49C2-A03E-F47226BE2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section design principl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 and design of crosswalks, curb ramps, technology, half-signals, curb extensions, pushbuttons, refuge islands, and roundabout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22595FFD-F578-4B91-B860-FB225087B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nflict Points at Intersections</a:t>
            </a:r>
            <a:endParaRPr b="0" lang="en-US" sz="3600" spc="-1" strike="noStrike">
              <a:solidFill>
                <a:srgbClr val="d0282b"/>
              </a:solidFill>
              <a:latin typeface="Impact"/>
            </a:endParaRPr>
          </a:p>
        </p:txBody>
      </p:sp>
      <p:pic>
        <p:nvPicPr>
          <p:cNvPr id="140" name="" descr=""/>
          <p:cNvPicPr/>
          <p:nvPr/>
        </p:nvPicPr>
        <p:blipFill>
          <a:blip r:embed="rId1"/>
          <a:stretch/>
        </p:blipFill>
        <p:spPr>
          <a:xfrm>
            <a:off x="988920" y="1986120"/>
            <a:ext cx="3380040" cy="3714480"/>
          </a:xfrm>
          <a:prstGeom prst="rect">
            <a:avLst/>
          </a:prstGeom>
          <a:ln w="0">
            <a:noFill/>
          </a:ln>
        </p:spPr>
      </p:pic>
      <p:pic>
        <p:nvPicPr>
          <p:cNvPr id="141" name="" descr=""/>
          <p:cNvPicPr/>
          <p:nvPr/>
        </p:nvPicPr>
        <p:blipFill>
          <a:blip r:embed="rId2"/>
          <a:stretch/>
        </p:blipFill>
        <p:spPr>
          <a:xfrm>
            <a:off x="4780080" y="2003400"/>
            <a:ext cx="3516120" cy="3673440"/>
          </a:xfrm>
          <a:prstGeom prst="rect">
            <a:avLst/>
          </a:prstGeom>
          <a:ln w="0">
            <a:noFill/>
          </a:ln>
        </p:spPr>
      </p:pic>
      <p:sp>
        <p:nvSpPr>
          <p:cNvPr id="3" name="PlaceHolder 2"/>
          <p:cNvSpPr>
            <a:spLocks noGrp="1"/>
          </p:cNvSpPr>
          <p:nvPr>
            <p:ph type="sldNum" idx="2"/>
          </p:nvPr>
        </p:nvSpPr>
        <p:spPr/>
        <p:txBody>
          <a:bodyPr/>
          <a:p>
            <a:fld id="{0902C7C5-0F02-49F6-9E4B-282176220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43"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estrians can be accommodated even at wide, high-volume intersection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ide variety of design elements exist to make good pedestrian design possible at intersection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B19D85A3-64D9-4F0F-911B-B6DE9A059D3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 crossing at intersection corner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pedestrians visible to traffic.</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vehicular traffic visible to pedestria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 predictable pedestrian actions.</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e movement to street level.</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e crossing distance.</a:t>
            </a:r>
            <a:endParaRPr b="0" lang="en-US" sz="2800" spc="-1" strike="noStrike">
              <a:solidFill>
                <a:srgbClr val="000000"/>
              </a:solidFill>
              <a:latin typeface="Tahoma"/>
            </a:endParaRPr>
          </a:p>
          <a:p>
            <a:pPr marL="343080" indent="-3430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ow vehicular traffic.</a:t>
            </a:r>
            <a:endParaRPr b="0" lang="en-US" sz="2800" spc="-1" strike="noStrike">
              <a:solidFill>
                <a:srgbClr val="000000"/>
              </a:solidFill>
              <a:latin typeface="Tahoma"/>
            </a:endParaRPr>
          </a:p>
        </p:txBody>
      </p:sp>
      <p:sp>
        <p:nvSpPr>
          <p:cNvPr id="102" name="PlaceHolder 2"/>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tersection Design Principle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BCC341B9-3F80-47C9-B089-ED9240D609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1800" y="77436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duced Visibility</a:t>
            </a:r>
            <a:endParaRPr b="0" lang="en-US" sz="3600" spc="-1" strike="noStrike">
              <a:solidFill>
                <a:srgbClr val="d0282b"/>
              </a:solidFill>
              <a:latin typeface="Impact"/>
            </a:endParaRPr>
          </a:p>
        </p:txBody>
      </p:sp>
      <p:pic>
        <p:nvPicPr>
          <p:cNvPr id="104" name="" descr=""/>
          <p:cNvPicPr/>
          <p:nvPr/>
        </p:nvPicPr>
        <p:blipFill>
          <a:blip r:embed="rId1"/>
          <a:srcRect l="1250" t="0" r="2372" b="2251"/>
          <a:stretch/>
        </p:blipFill>
        <p:spPr>
          <a:xfrm>
            <a:off x="1941480" y="2122560"/>
            <a:ext cx="5259600" cy="3456000"/>
          </a:xfrm>
          <a:prstGeom prst="rect">
            <a:avLst/>
          </a:prstGeom>
          <a:ln w="0">
            <a:noFill/>
          </a:ln>
        </p:spPr>
      </p:pic>
      <p:sp>
        <p:nvSpPr>
          <p:cNvPr id="3" name="PlaceHolder 2"/>
          <p:cNvSpPr>
            <a:spLocks noGrp="1"/>
          </p:cNvSpPr>
          <p:nvPr>
            <p:ph type="sldNum" idx="2"/>
          </p:nvPr>
        </p:nvSpPr>
        <p:spPr/>
        <p:txBody>
          <a:bodyPr/>
          <a:p>
            <a:fld id="{308996C4-7CD5-48B2-BF95-54B369997F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5560" y="70128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lternative </a:t>
            </a:r>
            <a:br>
              <a:rPr sz="3600"/>
            </a:br>
            <a:r>
              <a:rPr b="0" lang="en-US" sz="3600" spc="-1" strike="noStrike">
                <a:solidFill>
                  <a:srgbClr val="d0282b"/>
                </a:solidFill>
                <a:latin typeface="Impact"/>
              </a:rPr>
              <a:t>Design</a:t>
            </a:r>
            <a:endParaRPr b="0" lang="en-US" sz="3600" spc="-1" strike="noStrike">
              <a:solidFill>
                <a:srgbClr val="d0282b"/>
              </a:solidFill>
              <a:latin typeface="Impact"/>
            </a:endParaRPr>
          </a:p>
        </p:txBody>
      </p:sp>
      <p:pic>
        <p:nvPicPr>
          <p:cNvPr id="106" name="" descr=""/>
          <p:cNvPicPr/>
          <p:nvPr/>
        </p:nvPicPr>
        <p:blipFill>
          <a:blip r:embed="rId1"/>
          <a:stretch/>
        </p:blipFill>
        <p:spPr>
          <a:xfrm>
            <a:off x="3048120" y="728640"/>
            <a:ext cx="3822480" cy="5592960"/>
          </a:xfrm>
          <a:prstGeom prst="rect">
            <a:avLst/>
          </a:prstGeom>
          <a:ln w="0">
            <a:noFill/>
          </a:ln>
        </p:spPr>
      </p:pic>
      <p:sp>
        <p:nvSpPr>
          <p:cNvPr id="3" name="PlaceHolder 2"/>
          <p:cNvSpPr>
            <a:spLocks noGrp="1"/>
          </p:cNvSpPr>
          <p:nvPr>
            <p:ph type="sldNum" idx="2"/>
          </p:nvPr>
        </p:nvSpPr>
        <p:spPr/>
        <p:txBody>
          <a:bodyPr/>
          <a:p>
            <a:fld id="{B44A407A-4B1E-45F1-9194-BEE08F204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600200"/>
            <a:ext cx="76960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rol pedestrian movement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mote a connected pedestrian network.</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rove visibility of a crossing place.</a:t>
            </a:r>
            <a:endParaRPr b="0" lang="en-US" sz="26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ocation.</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king types.</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ghting.</a:t>
            </a:r>
            <a:endParaRPr b="0" lang="en-US" sz="26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intenance.</a:t>
            </a:r>
            <a:endParaRPr b="0" lang="en-US" sz="2600" spc="-1" strike="noStrike">
              <a:solidFill>
                <a:srgbClr val="000000"/>
              </a:solidFill>
              <a:latin typeface="Tahoma"/>
            </a:endParaRPr>
          </a:p>
        </p:txBody>
      </p:sp>
      <p:sp>
        <p:nvSpPr>
          <p:cNvPr id="108" name="PlaceHolder 2"/>
          <p:cNvSpPr>
            <a:spLocks noGrp="1"/>
          </p:cNvSpPr>
          <p:nvPr>
            <p:ph type="title"/>
          </p:nvPr>
        </p:nvSpPr>
        <p:spPr>
          <a:xfrm>
            <a:off x="252360" y="606240"/>
            <a:ext cx="787896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Crosswalks</a:t>
            </a:r>
            <a:endParaRPr b="0" lang="en-US" sz="3600" spc="-1" strike="noStrike">
              <a:solidFill>
                <a:srgbClr val="d0282b"/>
              </a:solidFill>
              <a:latin typeface="Impact"/>
            </a:endParaRPr>
          </a:p>
        </p:txBody>
      </p:sp>
      <p:sp>
        <p:nvSpPr>
          <p:cNvPr id="4" name="PlaceHolder 3"/>
          <p:cNvSpPr>
            <a:spLocks noGrp="1"/>
          </p:cNvSpPr>
          <p:nvPr>
            <p:ph type="sldNum" idx="2"/>
          </p:nvPr>
        </p:nvSpPr>
        <p:spPr/>
        <p:txBody>
          <a:bodyPr/>
          <a:p>
            <a:fld id="{283C48F8-92AF-4F48-851E-ACD81944BA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7400" y="73944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ommon Crosswalk Types</a:t>
            </a:r>
            <a:endParaRPr b="0" lang="en-US" sz="3600" spc="-1" strike="noStrike">
              <a:solidFill>
                <a:srgbClr val="d0282b"/>
              </a:solidFill>
              <a:latin typeface="Impact"/>
            </a:endParaRPr>
          </a:p>
        </p:txBody>
      </p:sp>
      <p:pic>
        <p:nvPicPr>
          <p:cNvPr id="110" name="" descr=""/>
          <p:cNvPicPr/>
          <p:nvPr/>
        </p:nvPicPr>
        <p:blipFill>
          <a:blip r:embed="rId1"/>
          <a:srcRect l="1708" t="11349" r="5125" b="7566"/>
          <a:stretch/>
        </p:blipFill>
        <p:spPr>
          <a:xfrm>
            <a:off x="2249640" y="2935440"/>
            <a:ext cx="5211720" cy="2320920"/>
          </a:xfrm>
          <a:prstGeom prst="rect">
            <a:avLst/>
          </a:prstGeom>
          <a:ln w="0">
            <a:noFill/>
          </a:ln>
        </p:spPr>
      </p:pic>
      <p:sp>
        <p:nvSpPr>
          <p:cNvPr id="3" name="PlaceHolder 2"/>
          <p:cNvSpPr>
            <a:spLocks noGrp="1"/>
          </p:cNvSpPr>
          <p:nvPr>
            <p:ph type="sldNum" idx="2"/>
          </p:nvPr>
        </p:nvSpPr>
        <p:spPr/>
        <p:txBody>
          <a:bodyPr/>
          <a:p>
            <a:fld id="{45B71168-3A8F-4CFB-A325-A1DEA66A5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1600200"/>
            <a:ext cx="79246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a:t>
            </a:r>
            <a:endParaRPr b="0" lang="en-US" sz="28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access for wheelchair users, strollers, luggage, handcarts, etc.</a:t>
            </a:r>
            <a:endParaRPr b="0" lang="en-US" sz="26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issues:</a:t>
            </a:r>
            <a:endParaRPr b="0" lang="en-US" sz="2800" spc="-1" strike="noStrike">
              <a:solidFill>
                <a:srgbClr val="000000"/>
              </a:solidFill>
              <a:latin typeface="Times New Roman"/>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ocation.</a:t>
            </a:r>
            <a:endParaRPr b="0" lang="en-US" sz="2600" spc="-1" strike="noStrike">
              <a:solidFill>
                <a:srgbClr val="000000"/>
              </a:solidFill>
              <a:latin typeface="Times New Roman"/>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lopes.</a:t>
            </a:r>
            <a:endParaRPr b="0" lang="en-US" sz="2600" spc="-1" strike="noStrike">
              <a:solidFill>
                <a:srgbClr val="000000"/>
              </a:solidFill>
              <a:latin typeface="Times New Roman"/>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lat landing area.</a:t>
            </a:r>
            <a:endParaRPr b="0" lang="en-US" sz="2600" spc="-1" strike="noStrike">
              <a:solidFill>
                <a:srgbClr val="000000"/>
              </a:solidFill>
              <a:latin typeface="Times New Roman"/>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bstructions in or near the ramp.</a:t>
            </a:r>
            <a:endParaRPr b="0" lang="en-US" sz="2600" spc="-1" strike="noStrike">
              <a:solidFill>
                <a:srgbClr val="000000"/>
              </a:solidFill>
              <a:latin typeface="Times New Roman"/>
            </a:endParaRPr>
          </a:p>
          <a:p>
            <a:pPr lvl="1" marL="743040" indent="-2858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idth.</a:t>
            </a:r>
            <a:endParaRPr b="0" lang="en-US" sz="2600" spc="-1" strike="noStrike">
              <a:solidFill>
                <a:srgbClr val="000000"/>
              </a:solidFill>
              <a:latin typeface="Times New Roman"/>
            </a:endParaRPr>
          </a:p>
        </p:txBody>
      </p:sp>
      <p:sp>
        <p:nvSpPr>
          <p:cNvPr id="1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se of Curb Ramp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A79F0833-CC61-4E0F-9294-AD7E5B9813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2360" y="81576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urb Ramp Slopes</a:t>
            </a:r>
            <a:endParaRPr b="0" lang="en-US" sz="3600" spc="-1" strike="noStrike">
              <a:solidFill>
                <a:srgbClr val="d0282b"/>
              </a:solidFill>
              <a:latin typeface="Impact"/>
            </a:endParaRPr>
          </a:p>
        </p:txBody>
      </p:sp>
      <p:pic>
        <p:nvPicPr>
          <p:cNvPr id="114" name="" descr=""/>
          <p:cNvPicPr/>
          <p:nvPr/>
        </p:nvPicPr>
        <p:blipFill>
          <a:blip r:embed="rId1"/>
          <a:stretch/>
        </p:blipFill>
        <p:spPr>
          <a:xfrm>
            <a:off x="2533680" y="2244600"/>
            <a:ext cx="5678280" cy="3132360"/>
          </a:xfrm>
          <a:prstGeom prst="rect">
            <a:avLst/>
          </a:prstGeom>
          <a:ln w="0">
            <a:noFill/>
          </a:ln>
        </p:spPr>
      </p:pic>
      <p:sp>
        <p:nvSpPr>
          <p:cNvPr id="3" name="PlaceHolder 2"/>
          <p:cNvSpPr>
            <a:spLocks noGrp="1"/>
          </p:cNvSpPr>
          <p:nvPr>
            <p:ph type="sldNum" idx="2"/>
          </p:nvPr>
        </p:nvSpPr>
        <p:spPr/>
        <p:txBody>
          <a:bodyPr/>
          <a:p>
            <a:fld id="{C86613AE-ED7F-44AD-94DB-EE54CED7B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28:22Z</dcterms:modified>
  <cp:revision>19</cp:revision>
  <dc:subject>FHWA University Course on Bicycle and Pedestrian Transportation</dc:subject>
  <dc:title>Insert Title Here</dc:title>
</cp:coreProperties>
</file>