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D90190DE-9C46-48E1-B9AF-2E7807118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sson #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sson Titl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cycle Facility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on completion of this lesson, students will be able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 the importance of bicycle facility mainte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 the objectives of bicycle facility mainte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 an implementation strategy to effect bicycle facility mainte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typical maintenance problems and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instru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ow a few examples (e.g., slides, videotape) of poorly maintained bicycle facil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 the types of problems bicycle riders might encounter because of the illustrated probl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udent Particip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de the students into small groups and have them compile a list of bicycle facility maintenance problems specific to your area/lo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the students propose solutions to the identified probl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llow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ign reading for lesson 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k the students to compile a list of types of local bicycle parking facil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 Tim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vide the students with an overview of the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op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intenance should be considered in planning and design and should attempt to keep facilities hazard-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maintenance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pavement edges and paved shoulders with sufficient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ching surfaces as smoothly as possible and requiring other agencies or private companies to do likewise whenever they dig up a road or tr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ure pavement overlay projects feather the new surface into the existing one or otherwise do not create new linear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such hazards as dangerous grates or utility covers as the opportunity ar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ching potholes in an expeditious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inely cutting back all encroaching vegetation, especially on trails or popular bike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ists should be encouraged to report maintenance problems and hazards. This can be accomplished by developing a bicycle spot improvement form, distributing copies throughout the bicycling community, and then making sure returned forms are acted upon in a timely fash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and build new roadways and bikeways in such a way as to reduce the potential for accumulating debr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cycle facility maintenance can be implemented through several basic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se steps in more detail with the students (see section 16.5 in Federal Highway Administration University Course on Bicycle and Pedestrian Transportation Student Workbook (Student Workbook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re are several typical maintenance problems experienced on bicycle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se maintenance problems and then ask the students if they can think of any local examples where poor maintenance is an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ructive feedback can be obtained from bicycl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an example of a postcard that can be distributed at bicycle shops and other public buildings where bicyclists are likely to be. Ask students to consider what the potential disadvantages of a postcard-reporting system might be (city may not be able to respond immediately or within expected timefra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mmarize the lesson and discuss any questions or issues wit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. Presentation Ti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ggested 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the lesson and discuss any questions or issues wit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B7F8-7373-4937-9D7F-C9AEDD486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470C-F5F4-40D8-B037-6C6430032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F54B-AF34-4F8D-B3BE-3C7562F75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988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87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713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988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87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D416-290D-482E-ABBC-066363B93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5040" y="1006200"/>
            <a:ext cx="78786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B41D-2B34-4F03-B2A1-F0B308952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2988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8760" y="212220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713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2988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8760" y="4184640"/>
            <a:ext cx="24364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1723-612F-46FA-B9F3-D2E851BEF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DDD4-6638-411B-8611-8D7641B59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0D80-CF65-427C-8A80-452630156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5040" y="1006200"/>
            <a:ext cx="78786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4071-456E-4BD9-B14D-1B64205F2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9BFA-C5B8-48D1-97EE-E78E77AE6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9280" y="418464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E093-E924-4510-AEDF-EFF70588B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9280" y="2122200"/>
            <a:ext cx="3692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1360" y="4184640"/>
            <a:ext cx="7567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4198-6359-4C24-B8B4-FC4F79B4C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09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4DBF9E4-2B7A-4648-8627-A55D777E8B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95360"/>
            <a:ext cx="82202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85200" y="6043680"/>
            <a:ext cx="1403280" cy="641160"/>
          </a:xfrm>
          <a:prstGeom prst="rect">
            <a:avLst/>
          </a:prstGeom>
          <a:ln w="0">
            <a:noFill/>
          </a:ln>
        </p:spPr>
      </p:pic>
      <p:pic>
        <p:nvPicPr>
          <p:cNvPr id="7" name="DOT2_transparent" descr=""/>
          <p:cNvPicPr/>
          <p:nvPr/>
        </p:nvPicPr>
        <p:blipFill>
          <a:blip r:embed="rId4"/>
          <a:stretch/>
        </p:blipFill>
        <p:spPr>
          <a:xfrm>
            <a:off x="123840" y="5878440"/>
            <a:ext cx="1971720" cy="841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6680" y="189000"/>
            <a:ext cx="712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c3972"/>
                </a:solidFill>
                <a:latin typeface="Arial"/>
              </a:rPr>
              <a:t>Federal Highway Administration University Course on Bicycle and Pedestrian Transportation</a:t>
            </a:r>
            <a:r>
              <a:rPr b="0" lang="en-US" sz="1000" spc="-1" strike="noStrike">
                <a:solidFill>
                  <a:srgbClr val="2c397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1160" y="3240"/>
            <a:ext cx="916776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3280" y="1182600"/>
            <a:ext cx="75974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85200" y="6043680"/>
            <a:ext cx="1403280" cy="641160"/>
          </a:xfrm>
          <a:prstGeom prst="rect">
            <a:avLst/>
          </a:prstGeom>
          <a:ln w="0">
            <a:noFill/>
          </a:ln>
        </p:spPr>
      </p:pic>
      <p:pic>
        <p:nvPicPr>
          <p:cNvPr id="48" name="DOT2_transparent" descr=""/>
          <p:cNvPicPr/>
          <p:nvPr/>
        </p:nvPicPr>
        <p:blipFill>
          <a:blip r:embed="rId4"/>
          <a:stretch/>
        </p:blipFill>
        <p:spPr>
          <a:xfrm>
            <a:off x="123840" y="5878440"/>
            <a:ext cx="1971720" cy="84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9080" y="812880"/>
            <a:ext cx="82202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680" y="189000"/>
            <a:ext cx="712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c3972"/>
                </a:solidFill>
                <a:latin typeface="Arial"/>
              </a:rPr>
              <a:t>Federal Highway Administration University Course on Bicycle and Pedestrian Transportation</a:t>
            </a:r>
            <a:r>
              <a:rPr b="0" lang="en-US" sz="1000" spc="-1" strike="noStrike">
                <a:solidFill>
                  <a:srgbClr val="2c397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07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Bicycle Facility Maintenance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5519880"/>
            <a:ext cx="6400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7803" t="7105" r="6402" b="8585"/>
          <a:stretch/>
        </p:blipFill>
        <p:spPr>
          <a:xfrm>
            <a:off x="2362320" y="1919160"/>
            <a:ext cx="4572000" cy="303696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63440" y="290520"/>
            <a:ext cx="26672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2c3972"/>
                </a:solidFill>
                <a:latin typeface="Arial"/>
              </a:rPr>
              <a:t>Publication No. FHWA-HRT-05-1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Lesson Outline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objec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feed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C0F6-9518-400D-B05C-D4750DEC0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Maintenance Objective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424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ve to keep facilities hazard-f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urage reporting of haz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build facilities with maintenance in mi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for mainten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62160" cy="295092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62BD-1E26-492F-B6A8-AF8C55100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mplemen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policies and pract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 chang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spot improvement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the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Implementation Planning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4966-41FC-4D94-8115-02AB5B3E95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face 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bris, pavement quality, snow remov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get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croaching vegetation (trees and gras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ng and mark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iform and usable conditio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Typical Maintenance Problem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BBA4-6D6B-4461-AC9E-E31AA8405B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8160" y="739440"/>
            <a:ext cx="78789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Feedback from Users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3667" t="0" r="1834" b="0"/>
          <a:stretch/>
        </p:blipFill>
        <p:spPr>
          <a:xfrm>
            <a:off x="1752480" y="1492200"/>
            <a:ext cx="5562720" cy="429912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946440" y="5867280"/>
            <a:ext cx="56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urce: Vermont Bicycle &amp; Pedestrian Coalition, http://www.vtbikeped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F33E-3E5B-447E-AC6E-0A595519B7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5040" y="1006200"/>
            <a:ext cx="7878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282b"/>
                </a:solidFill>
                <a:latin typeface="Impact"/>
              </a:rPr>
              <a:t>Lesson Summary</a:t>
            </a:r>
            <a:endParaRPr b="0" lang="en-US" sz="3600" spc="-1" strike="noStrike">
              <a:solidFill>
                <a:srgbClr val="d0282b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1360" y="2122200"/>
            <a:ext cx="7567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is an important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te program objec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implementation pl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1B12-C929-4573-9E6A-9961F3BF3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4:39:48Z</dcterms:created>
  <dc:creator>Keri Funderburg</dc:creator>
  <dc:description/>
  <dc:language>en-US</dc:language>
  <cp:lastModifiedBy>DVanlandingham</cp:lastModifiedBy>
  <dcterms:modified xsi:type="dcterms:W3CDTF">2006-07-26T23:45:36Z</dcterms:modified>
  <cp:revision>18</cp:revision>
  <dc:subject>FHWA University Course on Bicycle and Pedestrian Transportation</dc:subject>
  <dc:title>Insert Title Here</dc:title>
</cp:coreProperties>
</file>