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F3EDD91D-07E3-4DA2-A83A-885829E309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 </a:t>
            </a:r>
            <a:r>
              <a:rPr b="0" lang="en-US" sz="1000" spc="-1" strike="noStrike">
                <a:solidFill>
                  <a:srgbClr val="000000"/>
                </a:solidFill>
                <a:latin typeface="Arial"/>
              </a:rPr>
              <a:t>20</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Title: </a:t>
            </a:r>
            <a:r>
              <a:rPr b="0" lang="en-US" sz="1000" spc="-1" strike="noStrike">
                <a:solidFill>
                  <a:srgbClr val="000000"/>
                </a:solidFill>
                <a:latin typeface="Arial"/>
              </a:rPr>
              <a:t>Traffic Calm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Objectiv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completion of this lesson, students will be able to:</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e the goals and objectives of traffic calming.</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he issues related to traffic calming.</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several types of traffic calming devices, along with some of the advantages and disadvantages associated with eac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instru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sk the class to present the results of their search to locate a local example of traffic calming. Ask them to report on the details they collected about the device (e.g., a dimensioned sketch) and give their critique of the device’s effectiven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Particip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ne of the activities provided in the Student’s Guide.</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up:</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 reading for lesson 21.</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review and critique the latest version of the </a:t>
            </a:r>
            <a:r>
              <a:rPr b="0" i="1" lang="en-US" sz="1000" spc="-1" strike="noStrike">
                <a:solidFill>
                  <a:srgbClr val="000000"/>
                </a:solidFill>
                <a:latin typeface="Arial"/>
              </a:rPr>
              <a:t>Manual on Uniform Traffic Control Devices</a:t>
            </a:r>
            <a:r>
              <a:rPr b="0" lang="en-US" sz="1000" spc="-1" strike="noStrike">
                <a:solidFill>
                  <a:srgbClr val="000000"/>
                </a:solidFill>
                <a:latin typeface="Arial"/>
              </a:rPr>
              <a:t> (</a:t>
            </a:r>
            <a:r>
              <a:rPr b="0" i="1" lang="en-US" sz="1000" spc="-1" strike="noStrike">
                <a:solidFill>
                  <a:srgbClr val="000000"/>
                </a:solidFill>
                <a:latin typeface="Arial"/>
              </a:rPr>
              <a:t>MUTCD</a:t>
            </a:r>
            <a:r>
              <a:rPr b="0" lang="en-US" sz="1000" spc="-1" strike="noStrike">
                <a:solidFill>
                  <a:srgbClr val="000000"/>
                </a:solidFill>
                <a:latin typeface="Arial"/>
              </a:rPr>
              <a:t>) as it relates to accommodating pedestrians and bicyclists in work area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ssion Time: </a:t>
            </a:r>
            <a:r>
              <a:rPr b="0" lang="en-US" sz="1000" spc="-1" strike="noStrike">
                <a:solidFill>
                  <a:srgbClr val="000000"/>
                </a:solidFill>
                <a:latin typeface="Arial"/>
              </a:rPr>
              <a:t>45</a:t>
            </a:r>
            <a:r>
              <a:rPr b="0" lang="en-US" sz="1000" spc="-1" strike="noStrike">
                <a:solidFill>
                  <a:srgbClr val="000000"/>
                </a:solidFill>
                <a:latin typeface="Arial"/>
                <a:ea typeface="Times New Roman"/>
              </a:rPr>
              <a:t>–</a:t>
            </a:r>
            <a:r>
              <a:rPr b="0" lang="en-US" sz="1000" spc="-1" strike="noStrike">
                <a:solidFill>
                  <a:srgbClr val="000000"/>
                </a:solidFill>
                <a:latin typeface="Arial"/>
              </a:rPr>
              <a:t>60 minut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se devices employ several traffic calming techniques to achieve the desired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into detail about these lesser-known, less defined devices and how they have emerged (refer to the lesson for more inform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reas that are candidates for traffic calming may be suffering from a larger source of traffic congestion. Be sure to treat the disease, not the symptom, by examining the full context of the traffic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calming devices are used to control cut-through traffic and vehicles traveling at higher than desired speeds (typically through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raffic-calming measures are implemented, you should determine the </a:t>
            </a:r>
            <a:r>
              <a:rPr b="0" lang="en-US" sz="1200" spc="-1" strike="noStrike">
                <a:solidFill>
                  <a:srgbClr val="ff0000"/>
                </a:solidFill>
                <a:latin typeface="Arial"/>
              </a:rPr>
              <a:t>source</a:t>
            </a:r>
            <a:r>
              <a:rPr b="0" lang="en-US" sz="1200" spc="-1" strike="noStrike">
                <a:solidFill>
                  <a:srgbClr val="000000"/>
                </a:solidFill>
                <a:latin typeface="Arial"/>
              </a:rPr>
              <a:t> of the cut-through and/or speeding problem. Can that problem be fixed?  Typically, the cut-through traffic is a result of a backup on an arterial street. People do not want to be delayed, and they like a sense of movement, so they will turn off the main route and try to cut through a neighborhood to save time. Sometimes that means speeding to make up time due to a longer route or delay already incurred due to congestion. (See the figure on the next sl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is is a continuation of the previous slide with a visual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an example of an area that is requesting traffic calming devices due to high volumes of fast-moving cut-through traffic. Shown within a greater context, it is clear that if traffic calming treatments were implemented, they would be treating a result of a problem but would not be addressing the true source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solve this issue, look to major arterials surrounding the troubled area. Check the delay at signals, check signal timing efficiency, determine if adding turn bays or lanes of traffic would help, etc. Typically, the source of the problem is not difficult to find; the trouble lies in developing a good solution. Sometimes, when a community requests a traffic calming device, they already have a preset agenda and no other solution will be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proactive. All the traffic calming in the world will not solve the problems of poor planning and design. Good access management policies and zoning reduce a lot of the cut-through and speeding problems in neighborhoods. Allowing developers to build residential areas on major thoroughfares is a recipe for disaster. Establishing multiple viable routes and/or a grid network of arterials with efficient signal timing will solve many of the problems and remove the need to install any traffic-calming de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se are the primary goals of traffic cal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t is determined that some sort of traffic calming device is needed, the above effects can be the result. Some of the techniques are used in the initial planning and design. However, a secondary goal of traffic calming is to provide adequate mobility on the main route. By slowing speeds, one result is that many cut-through vehicles are deferred to other primary routes. A typical result is a less-congested roadway that is more friendly to pedestrians and bicycles, providing a balance for various transportation modes. The slower traffic moves, the greater the perception of safety for pedestrians, and the greater the public activity on the street. This typically leads to lower crime and an improved feel of the stree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raffic calming has several goals, chief among them </a:t>
            </a:r>
            <a:r>
              <a:rPr b="0" lang="en-US" sz="1200" spc="-1" strike="noStrike">
                <a:solidFill>
                  <a:srgbClr val="ff0000"/>
                </a:solidFill>
                <a:latin typeface="Arial"/>
              </a:rPr>
              <a:t>being</a:t>
            </a:r>
            <a:r>
              <a:rPr b="0" lang="en-US" sz="1200" spc="-1" strike="noStrike">
                <a:solidFill>
                  <a:srgbClr val="000000"/>
                </a:solidFill>
                <a:latin typeface="Arial"/>
              </a:rPr>
              <a:t> to slow vehicle speeds and improve safety along and adjacent to the road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ection 20.2 of the Federal Highway Administration University Course on Bicycle and Pedestrian Transportation Student Workbook (Student Workbook) for additional details of these objectiv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Here are some important issues that must be addressed when planning for traffic cal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ssues with traffic calming are unfounded. Others are addressed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afety: </a:t>
            </a:r>
            <a:r>
              <a:rPr b="0" lang="en-US" sz="1200" spc="-1" strike="noStrike">
                <a:solidFill>
                  <a:srgbClr val="000000"/>
                </a:solidFill>
                <a:latin typeface="Arial"/>
              </a:rPr>
              <a:t>See table 20-1 for a discussion of these problems; good educational programs and vigilance in planning will help assure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raffic Operations: </a:t>
            </a:r>
            <a:r>
              <a:rPr b="0" lang="en-US" sz="1200" spc="-1" strike="noStrike">
                <a:solidFill>
                  <a:srgbClr val="000000"/>
                </a:solidFill>
                <a:latin typeface="Arial"/>
              </a:rPr>
              <a:t>Planning and developing a network so that the vehicles travel on the roads that you want them to is the key. As long as it is the quickest and most direct route, then drivers will use it. Otherwise, like water, they will seek the path of least re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Standards:</a:t>
            </a:r>
            <a:r>
              <a:rPr b="0" lang="en-US" sz="1200" spc="-1" strike="noStrike">
                <a:solidFill>
                  <a:srgbClr val="000000"/>
                </a:solidFill>
                <a:latin typeface="Arial"/>
              </a:rPr>
              <a:t> Although design standards are an issue, not all the devices will work in all places. Driving populations are different in different areas; thus, the same devices will have not always have the same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ability:</a:t>
            </a:r>
            <a:r>
              <a:rPr b="0" lang="en-US" sz="1200" spc="-1" strike="noStrike">
                <a:solidFill>
                  <a:srgbClr val="000000"/>
                </a:solidFill>
                <a:latin typeface="Arial"/>
              </a:rPr>
              <a:t> See table 2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MS Access: </a:t>
            </a:r>
            <a:r>
              <a:rPr b="0" lang="en-US" sz="1200" spc="-1" strike="noStrike">
                <a:solidFill>
                  <a:srgbClr val="000000"/>
                </a:solidFill>
                <a:latin typeface="Arial"/>
              </a:rPr>
              <a:t>Regarding warrants and criteria for installation, primary access routes may not be eligible for certain types of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cycle Impacts: </a:t>
            </a:r>
            <a:r>
              <a:rPr b="0" lang="en-US" sz="1200" spc="-1" strike="noStrike">
                <a:solidFill>
                  <a:srgbClr val="000000"/>
                </a:solidFill>
                <a:latin typeface="Arial"/>
              </a:rPr>
              <a:t>Most concerns can be accommodated if bicycles are considered in the initial design criter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 figure in this slide shows an integrated plan of many traffic calming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the different types of traffic calming devices in this diagram. Refer to the lesson for further examples and illustrations of real-life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Listed are examples of traffic calming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if they have seen any of these devices implemented locally. What was their personal reaction to them? Were they aware of a general public reaction? Were there any problems or praises associated wit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23B3A0-2564-44DB-BEE5-FAC3BC19CE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A2995B-0305-4584-910B-036C86C468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A0CD55-0E13-4BD2-9E17-54C56901AB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81E612-C0CB-4484-A78E-6CBA7CF15E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4534CA-04E5-4177-BA59-1D4EE9402A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24D518-2D47-4E6E-A3A9-B3DE1D62CD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07DFA3-1462-4FE7-9C30-F1F8BBB224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54C7E9-12CC-49CB-B38B-54ECD7CBF7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3083CC-BFEE-45E6-B29D-8205186E70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B8FE4A-30B0-4C19-A9A8-6EF7C03C4F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9FA3A8-DE0D-4AA8-AA5E-E58C2D2678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DA46C9-579A-4C72-A58B-B283963F2E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60199B13-F163-4524-A23E-C115DE7A43E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Traffic Calming</a:t>
            </a:r>
            <a:endParaRPr b="0" lang="en-US" sz="3600" spc="-1" strike="noStrike">
              <a:solidFill>
                <a:srgbClr val="d0282b"/>
              </a:solidFill>
              <a:latin typeface="Impact"/>
            </a:endParaRPr>
          </a:p>
        </p:txBody>
      </p:sp>
      <p:sp>
        <p:nvSpPr>
          <p:cNvPr id="96" name="PlaceHolder 2"/>
          <p:cNvSpPr>
            <a:spLocks noGrp="1"/>
          </p:cNvSpPr>
          <p:nvPr>
            <p:ph type="subTitle"/>
          </p:nvPr>
        </p:nvSpPr>
        <p:spPr>
          <a:xfrm>
            <a:off x="1371600" y="5181480"/>
            <a:ext cx="6400800" cy="533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20</a:t>
            </a:r>
            <a:endParaRPr b="0" lang="en-US" sz="2800" spc="-1" strike="noStrike">
              <a:solidFill>
                <a:srgbClr val="000000"/>
              </a:solidFill>
              <a:latin typeface="Tahoma"/>
            </a:endParaRPr>
          </a:p>
        </p:txBody>
      </p:sp>
      <p:sp>
        <p:nvSpPr>
          <p:cNvPr id="97" name=""/>
          <p:cNvSpPr/>
          <p:nvPr/>
        </p:nvSpPr>
        <p:spPr>
          <a:xfrm>
            <a:off x="304920" y="5715000"/>
            <a:ext cx="84582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hoto Source: PBIC, www.pedbikeimages.org </a:t>
            </a:r>
            <a:endParaRPr b="0" lang="en-US" sz="1200" spc="-1" strike="noStrike">
              <a:solidFill>
                <a:srgbClr val="000000"/>
              </a:solidFill>
              <a:latin typeface="Times New Roman"/>
            </a:endParaRPr>
          </a:p>
        </p:txBody>
      </p:sp>
      <p:pic>
        <p:nvPicPr>
          <p:cNvPr id="98" name="" descr=""/>
          <p:cNvPicPr/>
          <p:nvPr/>
        </p:nvPicPr>
        <p:blipFill>
          <a:blip r:embed="rId1"/>
          <a:stretch/>
        </p:blipFill>
        <p:spPr>
          <a:xfrm>
            <a:off x="1981080" y="1752480"/>
            <a:ext cx="5029200" cy="3353040"/>
          </a:xfrm>
          <a:prstGeom prst="rect">
            <a:avLst/>
          </a:prstGeom>
          <a:ln w="12600">
            <a:solidFill>
              <a:srgbClr val="000099"/>
            </a:solidFill>
            <a:miter/>
          </a:ln>
        </p:spPr>
      </p:pic>
      <p:sp>
        <p:nvSpPr>
          <p:cNvPr id="99"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12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98400" y="1676520"/>
            <a:ext cx="77724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onerf.</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y treatment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low street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nelization.</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ffic calming on major road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ied intersection design.</a:t>
            </a:r>
            <a:endParaRPr b="0" lang="en-US" sz="2800" spc="-1" strike="noStrike">
              <a:solidFill>
                <a:srgbClr val="000000"/>
              </a:solidFill>
              <a:latin typeface="Tahoma"/>
            </a:endParaRPr>
          </a:p>
        </p:txBody>
      </p:sp>
      <p:sp>
        <p:nvSpPr>
          <p:cNvPr id="117" name="PlaceHolder 2"/>
          <p:cNvSpPr>
            <a:spLocks noGrp="1"/>
          </p:cNvSpPr>
          <p:nvPr>
            <p:ph type="title"/>
          </p:nvPr>
        </p:nvSpPr>
        <p:spPr>
          <a:xfrm>
            <a:off x="631800" y="861840"/>
            <a:ext cx="7878960" cy="94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ombination Device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0C522442-040D-45F7-8BDC-88E98F54B6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19"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ffic calming is a viable alternative for having different types of transport share the street.</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types of traffic-calming devices and strategies from which to choose.</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74E4FCAD-E6FD-454F-A41D-C3F14E32707A}"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101"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ed for traffic calming.</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s and objectives of traffic calming.</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ffic calming issue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s of traffic calming device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96694DB8-DDC3-468F-A5D8-FCF94F1050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57120" y="687240"/>
            <a:ext cx="787896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Need for Traffic Calming</a:t>
            </a:r>
            <a:endParaRPr b="0" lang="en-US" sz="3600" spc="-1" strike="noStrike">
              <a:solidFill>
                <a:srgbClr val="d0282b"/>
              </a:solidFill>
              <a:latin typeface="Impact"/>
            </a:endParaRPr>
          </a:p>
        </p:txBody>
      </p:sp>
      <p:sp>
        <p:nvSpPr>
          <p:cNvPr id="103" name="PlaceHolder 2"/>
          <p:cNvSpPr>
            <a:spLocks noGrp="1"/>
          </p:cNvSpPr>
          <p:nvPr>
            <p:ph/>
          </p:nvPr>
        </p:nvSpPr>
        <p:spPr>
          <a:xfrm>
            <a:off x="685440" y="1676520"/>
            <a:ext cx="80010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t-through traffic.</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vely high speeds in neighborhood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the source of the problem.</a:t>
            </a:r>
            <a:endParaRPr b="0" lang="en-US" sz="28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y do people cut through neighborhoods?</a:t>
            </a:r>
            <a:endParaRPr b="0" lang="en-US" sz="2600" spc="-1" strike="noStrike">
              <a:solidFill>
                <a:srgbClr val="000000"/>
              </a:solidFill>
              <a:latin typeface="Tahoma"/>
            </a:endParaRPr>
          </a:p>
          <a:p>
            <a:pPr lvl="2" marL="1143000" indent="-228600">
              <a:lnSpc>
                <a:spcPct val="90000"/>
              </a:lnSpc>
              <a:spcBef>
                <a:spcPts val="8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ffic backup on main route.</a:t>
            </a:r>
            <a:endParaRPr b="0" lang="en-US" sz="2200" spc="-1" strike="noStrike">
              <a:solidFill>
                <a:srgbClr val="000000"/>
              </a:solidFill>
              <a:latin typeface="Tahoma"/>
            </a:endParaRPr>
          </a:p>
          <a:p>
            <a:pPr lvl="2" marL="1143000" indent="-228600">
              <a:lnSpc>
                <a:spcPct val="90000"/>
              </a:lnSpc>
              <a:spcBef>
                <a:spcPts val="8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re direct connection.</a:t>
            </a:r>
            <a:endParaRPr b="0" lang="en-US" sz="22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y do people speed?</a:t>
            </a:r>
            <a:endParaRPr b="0" lang="en-US" sz="2600" spc="-1" strike="noStrike">
              <a:solidFill>
                <a:srgbClr val="000000"/>
              </a:solidFill>
              <a:latin typeface="Tahoma"/>
            </a:endParaRPr>
          </a:p>
          <a:p>
            <a:pPr lvl="2" marL="1143000" indent="-228600">
              <a:lnSpc>
                <a:spcPct val="90000"/>
              </a:lnSpc>
              <a:spcBef>
                <a:spcPts val="8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ke up time due to delay on main route.</a:t>
            </a:r>
            <a:endParaRPr b="0" lang="en-US" sz="2200" spc="-1" strike="noStrike">
              <a:solidFill>
                <a:srgbClr val="000000"/>
              </a:solidFill>
              <a:latin typeface="Tahoma"/>
            </a:endParaRPr>
          </a:p>
        </p:txBody>
      </p:sp>
      <p:sp>
        <p:nvSpPr>
          <p:cNvPr id="4" name="PlaceHolder 3"/>
          <p:cNvSpPr>
            <a:spLocks noGrp="1"/>
          </p:cNvSpPr>
          <p:nvPr>
            <p:ph type="sldNum" idx="2"/>
          </p:nvPr>
        </p:nvSpPr>
        <p:spPr/>
        <p:txBody>
          <a:bodyPr/>
          <a:p>
            <a:fld id="{789BB777-D22A-496A-923C-27A5C00ABC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914400" y="2057400"/>
            <a:ext cx="7075440" cy="3465360"/>
          </a:xfrm>
          <a:prstGeom prst="rect">
            <a:avLst/>
          </a:prstGeom>
          <a:ln w="0">
            <a:noFill/>
          </a:ln>
        </p:spPr>
      </p:pic>
      <p:sp>
        <p:nvSpPr>
          <p:cNvPr id="10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Need for Traffic Calming</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066F42C0-07BC-4947-85C3-5011D6FAD7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071360" y="2487240"/>
            <a:ext cx="7567560" cy="358308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 safety by slowing vehicle speed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e street feel.</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hance aesthetic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e crime.</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a balance among modes.</a:t>
            </a:r>
            <a:endParaRPr b="0" lang="en-US" sz="2800" spc="-1" strike="noStrike">
              <a:solidFill>
                <a:srgbClr val="000000"/>
              </a:solidFill>
              <a:latin typeface="Tahoma"/>
            </a:endParaRPr>
          </a:p>
        </p:txBody>
      </p:sp>
      <p:sp>
        <p:nvSpPr>
          <p:cNvPr id="107" name="PlaceHolder 2"/>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Goals and Objectives of</a:t>
            </a:r>
            <a:br>
              <a:rPr sz="3600"/>
            </a:br>
            <a:r>
              <a:rPr b="0" lang="en-US" sz="3600" spc="-1" strike="noStrike">
                <a:solidFill>
                  <a:srgbClr val="d0282b"/>
                </a:solidFill>
                <a:latin typeface="Impact"/>
              </a:rPr>
              <a:t>Traffic Calming</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8F00084A-65F9-45D7-9A5B-2590D8F20A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71360" y="2341080"/>
            <a:ext cx="7567560" cy="372924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lows vehicle speed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s safety.</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ommodates motor vehicles.</a:t>
            </a:r>
            <a:endParaRPr b="0" lang="en-US" sz="2800" spc="-1" strike="noStrike">
              <a:solidFill>
                <a:srgbClr val="000000"/>
              </a:solidFill>
              <a:latin typeface="Tahoma"/>
            </a:endParaRPr>
          </a:p>
        </p:txBody>
      </p:sp>
      <p:sp>
        <p:nvSpPr>
          <p:cNvPr id="109" name="PlaceHolder 2"/>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Goals and Objectives of</a:t>
            </a:r>
            <a:br>
              <a:rPr sz="3600"/>
            </a:br>
            <a:r>
              <a:rPr b="0" lang="en-US" sz="3600" spc="-1" strike="noStrike">
                <a:solidFill>
                  <a:srgbClr val="d0282b"/>
                </a:solidFill>
                <a:latin typeface="Impact"/>
              </a:rPr>
              <a:t>Traffic Calming</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2B4D6A60-34A8-4067-9916-1D366C082B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Traffic-Calming Issues</a:t>
            </a:r>
            <a:endParaRPr b="0" lang="en-US" sz="3600" spc="-1" strike="noStrike">
              <a:solidFill>
                <a:srgbClr val="d0282b"/>
              </a:solidFill>
              <a:latin typeface="Impact"/>
            </a:endParaRPr>
          </a:p>
        </p:txBody>
      </p:sp>
      <p:sp>
        <p:nvSpPr>
          <p:cNvPr id="111"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fety.</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act of traffic operation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proven design standard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ability.</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ergency/service vehicle acces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acts on bicycling.</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83E28CD4-1BC6-4E9B-AB26-B145F600F0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209680" y="1676520"/>
            <a:ext cx="4799160" cy="4216320"/>
          </a:xfrm>
          <a:prstGeom prst="rect">
            <a:avLst/>
          </a:prstGeom>
          <a:ln w="0">
            <a:noFill/>
          </a:ln>
        </p:spPr>
      </p:pic>
      <p:sp>
        <p:nvSpPr>
          <p:cNvPr id="113" name="PlaceHolder 1"/>
          <p:cNvSpPr>
            <a:spLocks noGrp="1"/>
          </p:cNvSpPr>
          <p:nvPr>
            <p:ph type="title"/>
          </p:nvPr>
        </p:nvSpPr>
        <p:spPr>
          <a:xfrm>
            <a:off x="995040" y="1006560"/>
            <a:ext cx="7878600" cy="69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Traffic-Calming Treatments</a:t>
            </a:r>
            <a:endParaRPr b="0" lang="en-US" sz="3600" spc="-1" strike="noStrike">
              <a:solidFill>
                <a:srgbClr val="d0282b"/>
              </a:solidFill>
              <a:latin typeface="Impact"/>
            </a:endParaRPr>
          </a:p>
        </p:txBody>
      </p:sp>
      <p:sp>
        <p:nvSpPr>
          <p:cNvPr id="3" name="PlaceHolder 2"/>
          <p:cNvSpPr>
            <a:spLocks noGrp="1"/>
          </p:cNvSpPr>
          <p:nvPr>
            <p:ph type="sldNum" idx="2"/>
          </p:nvPr>
        </p:nvSpPr>
        <p:spPr/>
        <p:txBody>
          <a:bodyPr/>
          <a:p>
            <a:fld id="{81298B86-D301-4C66-9667-535A013FA3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ised pavement area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ed street area.</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eet closure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ffic diversion.</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xture and visual device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king.</a:t>
            </a:r>
            <a:endParaRPr b="0" lang="en-US" sz="2800" spc="-1" strike="noStrike">
              <a:solidFill>
                <a:srgbClr val="000000"/>
              </a:solidFill>
              <a:latin typeface="Tahoma"/>
            </a:endParaRPr>
          </a:p>
        </p:txBody>
      </p:sp>
      <p:sp>
        <p:nvSpPr>
          <p:cNvPr id="115" name="PlaceHolder 2"/>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Types of Traffic-Calming Device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51AEBE94-F62D-4BC8-B839-024D6BDFA1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3:51:03Z</dcterms:modified>
  <cp:revision>18</cp:revision>
  <dc:subject>FHWA University Course on Bicycle and Pedestrian Transportation</dc:subject>
  <dc:title>Insert Title Here</dc:title>
</cp:coreProperties>
</file>