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3BDD01C6-58AB-493D-8548-2BC63447A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sson #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sson Titl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icycle and Pedestrian Accommodation in Work Z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on completion of this lesson, students will be able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e problems and associated solutions for helping pedestrians and bicyclists navigate work z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instruc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sk the class to present the results of their review and critique of the latest version of th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 on Uniform Traffic Control Devi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MUTCD) as it relates to what accommodations are made for pedestrians and bicycli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udent Particip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 how MUTCD or your State signing manual could be improved to better accommodate pedestrians and bicycli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llow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ign reading for lesson 2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the students identify some place in your community that they would classify as a pedestrian space.  Have them consider why pedestrians congregate in this area and, more specifically, what elements of the place make the location a pedestrian spa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 Tim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vide the students with an overview of the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op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re are several planning and design elements helpful in accommodating pedestrians and bicyclists in work z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ection 21.4 for further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ample of sign layout for simple work zone sidewalk cl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ection 21.3 for further information. Be sure to consider all types of pedestrians and accessibility issues, ramps, visually impaired where construction starts and end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gn placement for accessibility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ection 21.3 for further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ven if you have the sidewalk width and bike lane width, putting a construction sign in the middle may not leave enough clear space to keep the route properly acc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inuation of previous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in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he discussion of the elements listed i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lternate pedestrian routes in work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ection 21.4 for further information. Separate vehicles from pedestrians and be sure to provide advanced warning of the slight mod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mmarize the lesson and discuss any questions or issues with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the lesson and discuss any questions or issues with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8DC8-CC73-445C-B8A9-E38A2BA1D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F388-415F-4F6B-AF68-538B1E34B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F24C-721A-4D30-9BA9-0F020BC05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988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87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713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988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87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2346-632E-4781-9C3B-BD2225770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5040" y="1006200"/>
            <a:ext cx="78786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DE5E-3632-4D32-8028-38F30918A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2988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87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713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2988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87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4068-E1BA-4B82-84B4-BC4B93AC7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D229-7126-4B8D-920A-466F8A3F3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2E60-90F4-4E5F-A2F7-EF17632FE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5040" y="1006200"/>
            <a:ext cx="78786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01EB-7D5F-411E-98DE-3B710A38B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BA18-068F-4776-B58A-2B416932C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450B-FCEB-470A-A4BE-8D86BA973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32E7-0E34-4B45-A963-B96864EDF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09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6548467-DE7A-402F-A27C-5380C8F954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95360"/>
            <a:ext cx="82202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85200" y="6043680"/>
            <a:ext cx="1403280" cy="641160"/>
          </a:xfrm>
          <a:prstGeom prst="rect">
            <a:avLst/>
          </a:prstGeom>
          <a:ln w="0">
            <a:noFill/>
          </a:ln>
        </p:spPr>
      </p:pic>
      <p:pic>
        <p:nvPicPr>
          <p:cNvPr id="7" name="DOT2_transparent" descr=""/>
          <p:cNvPicPr/>
          <p:nvPr/>
        </p:nvPicPr>
        <p:blipFill>
          <a:blip r:embed="rId4"/>
          <a:stretch/>
        </p:blipFill>
        <p:spPr>
          <a:xfrm>
            <a:off x="123840" y="5878440"/>
            <a:ext cx="1971720" cy="841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6680" y="189000"/>
            <a:ext cx="712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c3972"/>
                </a:solidFill>
                <a:latin typeface="Arial"/>
              </a:rPr>
              <a:t>Federal Highway Administration University Course on Bicycle and Pedestrian Transportation</a:t>
            </a:r>
            <a:r>
              <a:rPr b="0" lang="en-US" sz="1000" spc="-1" strike="noStrike">
                <a:solidFill>
                  <a:srgbClr val="2c397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1160" y="3240"/>
            <a:ext cx="916776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3280" y="1182600"/>
            <a:ext cx="75974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85200" y="6043680"/>
            <a:ext cx="1403280" cy="641160"/>
          </a:xfrm>
          <a:prstGeom prst="rect">
            <a:avLst/>
          </a:prstGeom>
          <a:ln w="0">
            <a:noFill/>
          </a:ln>
        </p:spPr>
      </p:pic>
      <p:pic>
        <p:nvPicPr>
          <p:cNvPr id="48" name="DOT2_transparent" descr=""/>
          <p:cNvPicPr/>
          <p:nvPr/>
        </p:nvPicPr>
        <p:blipFill>
          <a:blip r:embed="rId4"/>
          <a:stretch/>
        </p:blipFill>
        <p:spPr>
          <a:xfrm>
            <a:off x="123840" y="5878440"/>
            <a:ext cx="1971720" cy="84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9080" y="812880"/>
            <a:ext cx="82202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680" y="189000"/>
            <a:ext cx="712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c3972"/>
                </a:solidFill>
                <a:latin typeface="Arial"/>
              </a:rPr>
              <a:t>Federal Highway Administration University Course on Bicycle and Pedestrian Transportation</a:t>
            </a:r>
            <a:r>
              <a:rPr b="0" lang="en-US" sz="1000" spc="-1" strike="noStrike">
                <a:solidFill>
                  <a:srgbClr val="2c397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40960"/>
            <a:ext cx="7772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Bicycle and Pedestrian Accommodation in Work Zones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5562720"/>
            <a:ext cx="7315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00480" y="2362320"/>
            <a:ext cx="4343400" cy="290340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63440" y="290520"/>
            <a:ext cx="26672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2c3972"/>
                </a:solidFill>
                <a:latin typeface="Arial"/>
              </a:rPr>
              <a:t>Publication No. FHWA-HRT-</a:t>
            </a:r>
            <a:r>
              <a:rPr b="1" lang="en-US" sz="1400" spc="-1" strike="noStrike" baseline="30000">
                <a:solidFill>
                  <a:srgbClr val="202a53"/>
                </a:solidFill>
                <a:latin typeface="Arial"/>
              </a:rPr>
              <a:t>05-1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Lesson Outline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of pedestrians and bicyclists in work ar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zone elements that might alleviate the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CBA3-FFC1-4A59-9F61-877050D63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 warning and guid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umination and reflector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ion of pedestrians and bicyclists from vehicular traff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 of people with disabi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Planning and Design Elements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68C8-4C24-4AA5-988B-F153081AA8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13320" y="708120"/>
            <a:ext cx="3998880" cy="5248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5400" y="720720"/>
            <a:ext cx="3744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0282b"/>
                </a:solidFill>
                <a:latin typeface="Impact"/>
              </a:rPr>
              <a:t>Sidewalk Closure and Pedestrian Detour Example</a:t>
            </a:r>
            <a:endParaRPr b="0" lang="en-US" sz="32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8BF7-5E3B-4929-8D1C-3CB0610FC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0282b"/>
                </a:solidFill>
                <a:latin typeface="Impact"/>
              </a:rPr>
              <a:t>Construction Sign </a:t>
            </a:r>
            <a:br>
              <a:rPr sz="3200"/>
            </a:br>
            <a:r>
              <a:rPr b="0" lang="en-US" sz="3200" spc="-1" strike="noStrike">
                <a:solidFill>
                  <a:srgbClr val="d0282b"/>
                </a:solidFill>
                <a:latin typeface="Impact"/>
              </a:rPr>
              <a:t>Placement</a:t>
            </a:r>
            <a:br>
              <a:rPr sz="3200"/>
            </a:br>
            <a:r>
              <a:rPr b="0" lang="en-US" sz="3200" spc="-1" strike="noStrike">
                <a:solidFill>
                  <a:srgbClr val="d0282b"/>
                </a:solidFill>
                <a:latin typeface="Impact"/>
              </a:rPr>
              <a:t>for Accessibility</a:t>
            </a:r>
            <a:endParaRPr b="0" lang="en-US" sz="3200" spc="-1" strike="noStrike">
              <a:solidFill>
                <a:srgbClr val="d0282b"/>
              </a:solidFill>
              <a:latin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08480" y="981000"/>
            <a:ext cx="3551400" cy="48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AD13-AA28-4B36-A8A5-4FFCF86762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ng the visually impai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face irregular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 walkways or bikew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Planning and Design Elements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B3B5-A866-4320-8915-574E3023F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7400" y="644400"/>
            <a:ext cx="7878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Temporary Pedestrian Routes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40080" y="1379520"/>
            <a:ext cx="498960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7073-290B-448D-B587-B15B18AA9B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Lesson Summary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areas can be very unfriendly places for pedestrians and bicycli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ways to accommodate all types of traffic in a work a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92F6-FA4F-4AB8-AC96-6456B9EB1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4:39:48Z</dcterms:created>
  <dc:creator>Keri Funderburg</dc:creator>
  <dc:description/>
  <dc:language>en-US</dc:language>
  <cp:lastModifiedBy>DVanlandingham</cp:lastModifiedBy>
  <dcterms:modified xsi:type="dcterms:W3CDTF">2006-07-26T23:53:10Z</dcterms:modified>
  <cp:revision>18</cp:revision>
  <dc:subject>FHWA University Course on Bicycle and Pedestrian Transportation</dc:subject>
  <dc:title>Insert Title Here</dc:title>
</cp:coreProperties>
</file>