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4DC48314-A15C-4F56-99ED-FC73B29D28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burban neighborhood design can be modified to encourage bicycling and walking. It is not necessarily more expensive to build these communities; however, they require more careful design on the part of the develo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destrian- and bicycle-friendly neighborhood includes the elements listed i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n interconnected street system is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multiple ways of accessing nearby destinations on foot, people begin to consider walking and bicycling as more efficient means of travel. Trails and other connections should be as direct as possible. Streets should include pedestrian-scale lighting, trees, sidewalks, and buildings that are within close walking distance to the sidew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is is an example of a fairly obvious missed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tuation is common throughout suburban developments in the United States. The sidewalk that the developer was required to build does not connect to the school crossing that is located less than a quarter mile away. In some areas of the country, these missing links happen because planning regulations are not explicit enough. In other areas, planning agencies and review boards do not have the authority to require offsite improvements such as this one, and the responsibility falls back upon the transportation agency to build these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ul-de-sacs are not recommended because they tend to dump higher quantities of motor vehicles onto collector and arterial streets, rather than dispersing them evenly across the transporta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de-sacs have proven to be effective in restricting automobile through traffic; however, they can also have the effect of restricting bicycle and pedestrian mobility unless public accessways are provided to connect the cul-de-sac with adjacent streets. Trail connections between cul-de-sacs and adjacent streets should be provided wherever possible to improve access for bicycles and pedest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nother example of a short trail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opportunities to make these short, direct connec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Rear-access parking helps to create an appealing streetsc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minating wide residential driveways and concentrating auto access to the rear in alleyways, you can provide a pedestrian-oriented streetscape along the fronts of h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Form-based codes set the parameters of community design based on ideal public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example in section 5.4. Discuss why this approach may be needed and how it differs from standard land development and roadway design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based code approach is different from the typical development process in several ways: it preempts the development process, essentially preparing a prescription for what development should look like in a particular location. In this way, it differs from the reactionary approach to the development review process. Second, the usual method for sizing roadways is to establish projected traffic volumes and design the road to meet them. The form-based code is a multimodal approach that is less driven by traditional auto-oriented models and roadway design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the basic purpose and considerations in a form-based code, per section 5.4 of the Student Work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information in the Student Work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 </a:t>
            </a:r>
            <a:r>
              <a:rPr b="0" lang="en-US" sz="1200" spc="-1" strike="noStrike">
                <a:solidFill>
                  <a:srgbClr val="000000"/>
                </a:solidFill>
                <a:latin typeface="Arial"/>
              </a:rPr>
              <a:t>There are many ways to improve land use regulations to support a multimodal transportation system that encourages access by walking, bicycling, and tran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ycle and pedestrian access should be a key consideration in the development process</a:t>
            </a:r>
            <a:r>
              <a:rPr b="0" lang="en-US" sz="1200" spc="-1" strike="noStrike">
                <a:solidFill>
                  <a:srgbClr val="000000"/>
                </a:solidFill>
                <a:latin typeface="Arial"/>
                <a:ea typeface="Times New Roman"/>
              </a:rPr>
              <a:t>―</a:t>
            </a:r>
            <a:r>
              <a:rPr b="0" lang="en-US" sz="1200" spc="-1" strike="noStrike">
                <a:solidFill>
                  <a:srgbClr val="000000"/>
                </a:solidFill>
                <a:latin typeface="Arial"/>
              </a:rPr>
              <a:t>as central to community design as automobile access. This slideshow will explore a variety of issues that arise during the development process that can either help or hinder access for pedestrians and bicycl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should refer to the Federal Highway Administration University Course on Bicycle and Pedestrian Transportation Student Workbook (Student Workbook), section 5.2 for a more detailed discussion of each bullet on this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physical layout of a development can often make the difference in a person’s choice to walk between stores or to adjacent develop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attention should be given to building setbacks, onsite circulation, as well as the configuration of parking lots. Several provisions can ensure a better walking environment in commercial and office developments. The following photographs illustrate thes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Building orientation can either attract pedestrians or discourage pedest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n winter, this development attracts pedestrian activity. Describe how the building orientation affects the pedestrian environment in this scen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Onsite circulation is also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examples of successful commercial developments that are primarily oriented to pedestrians and bicyclists, rather than to automobiles. They look and feel like traditional main streets, although some simulate this environment with varying degrees of success. Locating pedestrian waiting areas and cafés out of main travel areas is importan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onnections between developments are critical, as are the design of the passageways that connect adjacent develop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ttempted to walk between two adjacent developments that were not designed to accommodate pedestrians? What types of difficulties did you encou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arking lot design can either inhibit or encourage pedestrian and bicycle 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mmon scene in many suburban areas. What other design alternatives could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reative approaches to parking lot design are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types of parking you see in this photograph. How does it differ from the previous picture? Describe other creative parking solutions you hav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79BDF6-77C2-4526-8D9D-D2965FA9EA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C61E29-A469-4CC4-9DF8-94486394E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D781F4-8218-460E-A295-A349E8DE79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B00C12-DDFC-4E80-B847-7FCB1B55C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BE0BBF-8F82-46C5-BF75-0E86C63F7A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6BBC8D-53D6-4A2E-8272-47D8625BBB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D1AC58-00B6-436C-87B4-4BD31A4B98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E75B2F-34B5-4161-8472-46F4235BA4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A8C148-0707-4D51-A657-C2E0136A5E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F160C8-4272-40E0-81A7-9D7F736D58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E2CB6-8FCB-4A5A-8955-38928B0DF8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2D911-397E-4A8F-BE43-5F16BD5B72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63EF86D4-769F-45DE-B25A-A48A2BE7F80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094 </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050480" y="1182600"/>
            <a:ext cx="7319880" cy="13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and Use Regulations to Encourage Nonmotorized Travel</a:t>
            </a:r>
            <a:endParaRPr b="0" lang="en-US" sz="3600" spc="-1" strike="noStrike">
              <a:solidFill>
                <a:srgbClr val="d0282b"/>
              </a:solidFill>
              <a:latin typeface="Impact"/>
            </a:endParaRPr>
          </a:p>
        </p:txBody>
      </p:sp>
      <p:pic>
        <p:nvPicPr>
          <p:cNvPr id="97" name="" descr=""/>
          <p:cNvPicPr/>
          <p:nvPr/>
        </p:nvPicPr>
        <p:blipFill>
          <a:blip r:embed="rId1"/>
          <a:srcRect l="0" t="0" r="2372" b="2251"/>
          <a:stretch/>
        </p:blipFill>
        <p:spPr>
          <a:xfrm>
            <a:off x="2152800" y="2465280"/>
            <a:ext cx="4838400" cy="3230640"/>
          </a:xfrm>
          <a:prstGeom prst="rect">
            <a:avLst/>
          </a:prstGeom>
          <a:ln w="12600">
            <a:solidFill>
              <a:srgbClr val="000066"/>
            </a:solidFill>
            <a:miter/>
          </a:ln>
        </p:spPr>
      </p:pic>
      <p:sp>
        <p:nvSpPr>
          <p:cNvPr id="98" name="PlaceHolder 2"/>
          <p:cNvSpPr>
            <a:spLocks noGrp="1"/>
          </p:cNvSpPr>
          <p:nvPr>
            <p:ph type="subTitle"/>
          </p:nvPr>
        </p:nvSpPr>
        <p:spPr>
          <a:xfrm>
            <a:off x="1371600" y="5751360"/>
            <a:ext cx="6400800" cy="790560"/>
          </a:xfrm>
          <a:prstGeom prst="rect">
            <a:avLst/>
          </a:prstGeom>
          <a:noFill/>
          <a:ln w="0">
            <a:noFill/>
          </a:ln>
        </p:spPr>
        <p:txBody>
          <a:bodyPr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5</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1828800"/>
            <a:ext cx="7772400" cy="358128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vity.</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uts for pedestrians and bicyclist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estrian- and bicycle-oriented streetscap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ets with low vehicle speeds         (&lt;32 km/h (&lt;20 mi/h)).</a:t>
            </a:r>
            <a:endParaRPr b="0" lang="en-US" sz="2800" spc="-1" strike="noStrike">
              <a:solidFill>
                <a:srgbClr val="000000"/>
              </a:solidFill>
              <a:latin typeface="Tahoma"/>
            </a:endParaRPr>
          </a:p>
        </p:txBody>
      </p:sp>
      <p:sp>
        <p:nvSpPr>
          <p:cNvPr id="120"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esidential Design Standard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60FC8556-D1BE-4DF0-A8D8-962957DF7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371600" y="1409760"/>
            <a:ext cx="6324480" cy="4160880"/>
          </a:xfrm>
          <a:prstGeom prst="rect">
            <a:avLst/>
          </a:prstGeom>
          <a:ln w="9360">
            <a:solidFill>
              <a:srgbClr val="000066"/>
            </a:solidFill>
            <a:miter/>
          </a:ln>
        </p:spPr>
      </p:pic>
      <p:sp>
        <p:nvSpPr>
          <p:cNvPr id="122" name=""/>
          <p:cNvSpPr/>
          <p:nvPr/>
        </p:nvSpPr>
        <p:spPr>
          <a:xfrm>
            <a:off x="4531680" y="5867280"/>
            <a:ext cx="3955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Dan Burden), www.pedbikeimages.org</a:t>
            </a:r>
            <a:endParaRPr b="0" lang="en-US" sz="1200" spc="-1" strike="noStrike">
              <a:solidFill>
                <a:srgbClr val="000000"/>
              </a:solidFill>
              <a:latin typeface="Times New Roman"/>
            </a:endParaRPr>
          </a:p>
        </p:txBody>
      </p:sp>
      <p:sp>
        <p:nvSpPr>
          <p:cNvPr id="123" name=""/>
          <p:cNvSpPr/>
          <p:nvPr/>
        </p:nvSpPr>
        <p:spPr>
          <a:xfrm>
            <a:off x="482760" y="533520"/>
            <a:ext cx="81532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nterconnectivity</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3C2D0EC0-E117-4C18-A9DB-4299B01DBB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219320" y="1398600"/>
            <a:ext cx="6705360" cy="4468680"/>
          </a:xfrm>
          <a:prstGeom prst="rect">
            <a:avLst/>
          </a:prstGeom>
          <a:ln w="12600">
            <a:solidFill>
              <a:srgbClr val="000066"/>
            </a:solidFill>
            <a:miter/>
          </a:ln>
        </p:spPr>
      </p:pic>
      <p:sp>
        <p:nvSpPr>
          <p:cNvPr id="125" name=""/>
          <p:cNvSpPr/>
          <p:nvPr/>
        </p:nvSpPr>
        <p:spPr>
          <a:xfrm>
            <a:off x="495360" y="628560"/>
            <a:ext cx="81532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Missed Connection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08CA28AE-F907-45F4-A404-54CFC51E5A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752480" y="1333440"/>
            <a:ext cx="5715000" cy="4287960"/>
          </a:xfrm>
          <a:prstGeom prst="rect">
            <a:avLst/>
          </a:prstGeom>
          <a:ln w="12600">
            <a:solidFill>
              <a:srgbClr val="000066"/>
            </a:solidFill>
            <a:miter/>
          </a:ln>
        </p:spPr>
      </p:pic>
      <p:sp>
        <p:nvSpPr>
          <p:cNvPr id="127" name=""/>
          <p:cNvSpPr/>
          <p:nvPr/>
        </p:nvSpPr>
        <p:spPr>
          <a:xfrm>
            <a:off x="1358280" y="57913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128" name=""/>
          <p:cNvSpPr/>
          <p:nvPr/>
        </p:nvSpPr>
        <p:spPr>
          <a:xfrm>
            <a:off x="495360" y="495360"/>
            <a:ext cx="81532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ul-de-sac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B783F07A-30DA-4218-96C8-5D6223FAA4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200400" y="1371600"/>
            <a:ext cx="2846520" cy="4267080"/>
          </a:xfrm>
          <a:prstGeom prst="rect">
            <a:avLst/>
          </a:prstGeom>
          <a:ln w="12600">
            <a:solidFill>
              <a:srgbClr val="000066"/>
            </a:solidFill>
            <a:miter/>
          </a:ln>
        </p:spPr>
      </p:pic>
      <p:sp>
        <p:nvSpPr>
          <p:cNvPr id="130" name=""/>
          <p:cNvSpPr/>
          <p:nvPr/>
        </p:nvSpPr>
        <p:spPr>
          <a:xfrm>
            <a:off x="704160" y="5829480"/>
            <a:ext cx="3955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Dan Burden), www.pedbikeimages.org</a:t>
            </a:r>
            <a:endParaRPr b="0" lang="en-US" sz="1200" spc="-1" strike="noStrike">
              <a:solidFill>
                <a:srgbClr val="000000"/>
              </a:solidFill>
              <a:latin typeface="Times New Roman"/>
            </a:endParaRPr>
          </a:p>
        </p:txBody>
      </p:sp>
      <p:sp>
        <p:nvSpPr>
          <p:cNvPr id="131" name=""/>
          <p:cNvSpPr/>
          <p:nvPr/>
        </p:nvSpPr>
        <p:spPr>
          <a:xfrm>
            <a:off x="495360" y="628560"/>
            <a:ext cx="81532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ail Connection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5142F049-F6AE-4919-96D6-E55E33EEA8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752480" y="1484280"/>
            <a:ext cx="5639040" cy="4230720"/>
          </a:xfrm>
          <a:prstGeom prst="rect">
            <a:avLst/>
          </a:prstGeom>
          <a:ln w="12600">
            <a:solidFill>
              <a:srgbClr val="000066"/>
            </a:solidFill>
            <a:miter/>
          </a:ln>
        </p:spPr>
      </p:pic>
      <p:sp>
        <p:nvSpPr>
          <p:cNvPr id="133" name=""/>
          <p:cNvSpPr/>
          <p:nvPr/>
        </p:nvSpPr>
        <p:spPr>
          <a:xfrm>
            <a:off x="950400" y="5848200"/>
            <a:ext cx="3955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Dan Burden), www.pedbikeimages.org</a:t>
            </a:r>
            <a:endParaRPr b="0" lang="en-US" sz="1200" spc="-1" strike="noStrike">
              <a:solidFill>
                <a:srgbClr val="000000"/>
              </a:solidFill>
              <a:latin typeface="Times New Roman"/>
            </a:endParaRPr>
          </a:p>
        </p:txBody>
      </p:sp>
      <p:sp>
        <p:nvSpPr>
          <p:cNvPr id="134" name=""/>
          <p:cNvSpPr/>
          <p:nvPr/>
        </p:nvSpPr>
        <p:spPr>
          <a:xfrm>
            <a:off x="495360" y="571680"/>
            <a:ext cx="81532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ear-Access Parking</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7138857F-F0A4-41F7-A5D9-FA49E82909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760" y="5140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urpose of a Form-Based Code</a:t>
            </a:r>
            <a:endParaRPr b="0" lang="en-US" sz="3600" spc="-1" strike="noStrike">
              <a:solidFill>
                <a:srgbClr val="d0282b"/>
              </a:solidFill>
              <a:latin typeface="Impact"/>
            </a:endParaRPr>
          </a:p>
        </p:txBody>
      </p:sp>
      <p:sp>
        <p:nvSpPr>
          <p:cNvPr id="136" name="PlaceHolder 2"/>
          <p:cNvSpPr>
            <a:spLocks noGrp="1"/>
          </p:cNvSpPr>
          <p:nvPr>
            <p:ph/>
          </p:nvPr>
        </p:nvSpPr>
        <p:spPr>
          <a:xfrm>
            <a:off x="723960" y="1447560"/>
            <a:ext cx="7848720" cy="1143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stablish a basic prescription for good public space along a street.</a:t>
            </a:r>
            <a:endParaRPr b="0" lang="en-US" sz="24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7" name="" descr=""/>
          <p:cNvPicPr/>
          <p:nvPr/>
        </p:nvPicPr>
        <p:blipFill>
          <a:blip r:embed="rId1"/>
          <a:srcRect l="11102" t="0" r="26678" b="13105"/>
          <a:stretch/>
        </p:blipFill>
        <p:spPr>
          <a:xfrm>
            <a:off x="1811160" y="2706840"/>
            <a:ext cx="6232680" cy="2849400"/>
          </a:xfrm>
          <a:prstGeom prst="rect">
            <a:avLst/>
          </a:prstGeom>
          <a:ln w="12600">
            <a:solidFill>
              <a:srgbClr val="000066"/>
            </a:solidFill>
            <a:miter/>
          </a:ln>
        </p:spPr>
      </p:pic>
      <p:sp>
        <p:nvSpPr>
          <p:cNvPr id="138" name=""/>
          <p:cNvSpPr/>
          <p:nvPr/>
        </p:nvSpPr>
        <p:spPr>
          <a:xfrm>
            <a:off x="609480" y="5772240"/>
            <a:ext cx="3733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rlington County Form Based Code</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6CA11602-E2EE-46E7-A843-AECB3A9216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828440"/>
            <a:ext cx="7620120" cy="39625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ilding placement (height, distance from street, width).</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etscape standard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al standard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s for other public spaces—civic greens, pedestrian walkways, etc.</a:t>
            </a:r>
            <a:endParaRPr b="0" lang="en-US" sz="2800" spc="-1" strike="noStrike">
              <a:solidFill>
                <a:srgbClr val="000000"/>
              </a:solidFill>
              <a:latin typeface="Tahoma"/>
            </a:endParaRPr>
          </a:p>
        </p:txBody>
      </p:sp>
      <p:sp>
        <p:nvSpPr>
          <p:cNvPr id="14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lements of a Form-Based Code</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EAD939D3-A044-4F13-B428-FC5EC39FC6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4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oning and planning regulations can be effective tools in encouraging pedestrian and bicycle travel.</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ers play a key role in accommodating and encouraging nonmotorized travel.</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a variety of strategies for achieving good design in residential and commercial areas.</a:t>
            </a: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77CD9DF8-A580-4035-B46D-26A2C5797DCB}"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 elements of zoning and subdivision regulation.</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standards for commercial area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standards for residential area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of a form-based code.</a:t>
            </a:r>
            <a:endParaRPr b="0" lang="en-US" sz="2800" spc="-1" strike="noStrike">
              <a:solidFill>
                <a:srgbClr val="000000"/>
              </a:solidFill>
              <a:latin typeface="Tahoma"/>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00468849-1AF9-4D67-9FDF-66B8C6801B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General Elements of Zoning and Subdivision Regulation</a:t>
            </a:r>
            <a:endParaRPr b="0" lang="en-US" sz="3600" spc="-1" strike="noStrike">
              <a:solidFill>
                <a:srgbClr val="d0282b"/>
              </a:solidFill>
              <a:latin typeface="Impact"/>
            </a:endParaRPr>
          </a:p>
        </p:txBody>
      </p:sp>
      <p:sp>
        <p:nvSpPr>
          <p:cNvPr id="102" name="PlaceHolder 2"/>
          <p:cNvSpPr>
            <a:spLocks noGrp="1"/>
          </p:cNvSpPr>
          <p:nvPr>
            <p:ph/>
          </p:nvPr>
        </p:nvSpPr>
        <p:spPr>
          <a:xfrm>
            <a:off x="1071360" y="2414520"/>
            <a:ext cx="7567560" cy="365616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division layout.</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l-de-sac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ture extension of street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ged implementation.</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l circulation.</a:t>
            </a:r>
            <a:endParaRPr b="0" lang="en-US" sz="28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A161B909-48A7-45D2-ABC9-FB9F047916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mmercial Development Standards</a:t>
            </a:r>
            <a:endParaRPr b="0" lang="en-US" sz="3600" spc="-1" strike="noStrike">
              <a:solidFill>
                <a:srgbClr val="d0282b"/>
              </a:solidFill>
              <a:latin typeface="Impact"/>
            </a:endParaRPr>
          </a:p>
        </p:txBody>
      </p:sp>
      <p:sp>
        <p:nvSpPr>
          <p:cNvPr id="10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ilding orientation and facad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site circulation.</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between development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king lots.</a:t>
            </a: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62DD7816-0BA1-4CA2-8514-0B7CAC337B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31680" y="5867280"/>
            <a:ext cx="3955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Dan Burden), www.pedbikeimages.org</a:t>
            </a:r>
            <a:endParaRPr b="0" lang="en-US" sz="1200" spc="-1" strike="noStrike">
              <a:solidFill>
                <a:srgbClr val="000000"/>
              </a:solidFill>
              <a:latin typeface="Times New Roman"/>
            </a:endParaRPr>
          </a:p>
        </p:txBody>
      </p:sp>
      <p:pic>
        <p:nvPicPr>
          <p:cNvPr id="106" name="" descr=""/>
          <p:cNvPicPr/>
          <p:nvPr/>
        </p:nvPicPr>
        <p:blipFill>
          <a:blip r:embed="rId1"/>
          <a:stretch/>
        </p:blipFill>
        <p:spPr>
          <a:xfrm>
            <a:off x="1752480" y="1349280"/>
            <a:ext cx="5715000" cy="4289400"/>
          </a:xfrm>
          <a:prstGeom prst="rect">
            <a:avLst/>
          </a:prstGeom>
          <a:ln w="12600">
            <a:solidFill>
              <a:srgbClr val="000066"/>
            </a:solidFill>
            <a:miter/>
          </a:ln>
        </p:spPr>
      </p:pic>
      <p:sp>
        <p:nvSpPr>
          <p:cNvPr id="107" name="PlaceHolder 1"/>
          <p:cNvSpPr>
            <a:spLocks noGrp="1"/>
          </p:cNvSpPr>
          <p:nvPr>
            <p:ph type="title"/>
          </p:nvPr>
        </p:nvSpPr>
        <p:spPr>
          <a:xfrm>
            <a:off x="685800" y="51444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uilding Orientation</a:t>
            </a:r>
            <a:endParaRPr b="0" lang="en-US" sz="3600" spc="-1" strike="noStrike">
              <a:solidFill>
                <a:srgbClr val="d0282b"/>
              </a:solidFill>
              <a:latin typeface="Impact"/>
            </a:endParaRPr>
          </a:p>
        </p:txBody>
      </p:sp>
      <p:sp>
        <p:nvSpPr>
          <p:cNvPr id="3" name="PlaceHolder 2"/>
          <p:cNvSpPr>
            <a:spLocks noGrp="1"/>
          </p:cNvSpPr>
          <p:nvPr>
            <p:ph type="sldNum" idx="2"/>
          </p:nvPr>
        </p:nvSpPr>
        <p:spPr/>
        <p:txBody>
          <a:bodyPr/>
          <a:p>
            <a:fld id="{A3050492-27E5-4D87-9633-79E6B562B4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90840" y="1295280"/>
            <a:ext cx="5952960" cy="4469040"/>
          </a:xfrm>
          <a:prstGeom prst="rect">
            <a:avLst/>
          </a:prstGeom>
          <a:ln w="12600">
            <a:solidFill>
              <a:srgbClr val="000066"/>
            </a:solidFill>
            <a:miter/>
          </a:ln>
        </p:spPr>
      </p:pic>
      <p:sp>
        <p:nvSpPr>
          <p:cNvPr id="109" name=""/>
          <p:cNvSpPr/>
          <p:nvPr/>
        </p:nvSpPr>
        <p:spPr>
          <a:xfrm>
            <a:off x="495360" y="533520"/>
            <a:ext cx="81532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Onsite Circulation</a:t>
            </a:r>
            <a:endParaRPr b="0" lang="en-US" sz="3600" spc="-1" strike="noStrike">
              <a:solidFill>
                <a:srgbClr val="000000"/>
              </a:solidFill>
              <a:latin typeface="Times New Roman"/>
            </a:endParaRPr>
          </a:p>
        </p:txBody>
      </p:sp>
      <p:sp>
        <p:nvSpPr>
          <p:cNvPr id="110" name=""/>
          <p:cNvSpPr/>
          <p:nvPr/>
        </p:nvSpPr>
        <p:spPr>
          <a:xfrm>
            <a:off x="704160" y="5886360"/>
            <a:ext cx="3955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Dan Burden), www.pedbikeimages.org</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937CCA36-08C2-44D2-BEB9-BF91E04F7A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743120" y="1447920"/>
            <a:ext cx="5724360" cy="4295520"/>
          </a:xfrm>
          <a:prstGeom prst="rect">
            <a:avLst/>
          </a:prstGeom>
          <a:ln w="12600">
            <a:solidFill>
              <a:srgbClr val="000066"/>
            </a:solidFill>
            <a:miter/>
          </a:ln>
        </p:spPr>
      </p:pic>
      <p:sp>
        <p:nvSpPr>
          <p:cNvPr id="112" name=""/>
          <p:cNvSpPr/>
          <p:nvPr/>
        </p:nvSpPr>
        <p:spPr>
          <a:xfrm>
            <a:off x="1121760" y="5924520"/>
            <a:ext cx="3955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Dan Burden), www.pedbikeimages.org</a:t>
            </a:r>
            <a:endParaRPr b="0" lang="en-US" sz="1200" spc="-1" strike="noStrike">
              <a:solidFill>
                <a:srgbClr val="000000"/>
              </a:solidFill>
              <a:latin typeface="Times New Roman"/>
            </a:endParaRPr>
          </a:p>
        </p:txBody>
      </p:sp>
      <p:sp>
        <p:nvSpPr>
          <p:cNvPr id="113" name=""/>
          <p:cNvSpPr/>
          <p:nvPr/>
        </p:nvSpPr>
        <p:spPr>
          <a:xfrm>
            <a:off x="254160" y="609480"/>
            <a:ext cx="81532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evelopment Connection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62DEB7D1-C044-4E2B-A1EF-6A780ED90E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752480" y="1523880"/>
            <a:ext cx="5486400" cy="4116600"/>
          </a:xfrm>
          <a:prstGeom prst="rect">
            <a:avLst/>
          </a:prstGeom>
          <a:ln w="3240">
            <a:solidFill>
              <a:srgbClr val="000000"/>
            </a:solidFill>
            <a:miter/>
          </a:ln>
        </p:spPr>
      </p:pic>
      <p:sp>
        <p:nvSpPr>
          <p:cNvPr id="115" name=""/>
          <p:cNvSpPr/>
          <p:nvPr/>
        </p:nvSpPr>
        <p:spPr>
          <a:xfrm>
            <a:off x="495360" y="666720"/>
            <a:ext cx="81532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uburban Parking Lot Desig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7307CF8F-DFA5-4473-85AC-86A218880C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752480" y="1755720"/>
            <a:ext cx="5715000" cy="3807000"/>
          </a:xfrm>
          <a:prstGeom prst="rect">
            <a:avLst/>
          </a:prstGeom>
          <a:ln w="12600">
            <a:solidFill>
              <a:srgbClr val="000066"/>
            </a:solidFill>
            <a:miter/>
          </a:ln>
        </p:spPr>
      </p:pic>
      <p:sp>
        <p:nvSpPr>
          <p:cNvPr id="117" name=""/>
          <p:cNvSpPr/>
          <p:nvPr/>
        </p:nvSpPr>
        <p:spPr>
          <a:xfrm>
            <a:off x="1217160" y="5791320"/>
            <a:ext cx="3955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Dan Burden), www.pedbikeimages.org</a:t>
            </a:r>
            <a:endParaRPr b="0" lang="en-US" sz="1200" spc="-1" strike="noStrike">
              <a:solidFill>
                <a:srgbClr val="000000"/>
              </a:solidFill>
              <a:latin typeface="Times New Roman"/>
            </a:endParaRPr>
          </a:p>
        </p:txBody>
      </p:sp>
      <p:sp>
        <p:nvSpPr>
          <p:cNvPr id="118" name=""/>
          <p:cNvSpPr/>
          <p:nvPr/>
        </p:nvSpPr>
        <p:spPr>
          <a:xfrm>
            <a:off x="482760" y="533520"/>
            <a:ext cx="81532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reative Parking Lot Desig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2D1DC3DC-FFF0-4436-A2EF-69E8855AD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00:35Z</dcterms:modified>
  <cp:revision>18</cp:revision>
  <dc:subject>FHWA University Course on Bicycle and Pedestrian Transportation</dc:subject>
  <dc:title>Insert Title Here</dc:title>
</cp:coreProperties>
</file>